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A4480BE-A580-4F0F-9300-3A02C757A2C8}" type="doc">
      <dgm:prSet loTypeId="urn:microsoft.com/office/officeart/2005/8/layout/vProcess5" loCatId="process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74328B55-4645-4FA0-BB9C-27A101EA8585}">
      <dgm:prSet phldrT="[Text]"/>
      <dgm:spPr/>
      <dgm:t>
        <a:bodyPr/>
        <a:lstStyle/>
        <a:p>
          <a:r>
            <a:rPr lang="en-US" b="1" dirty="0"/>
            <a:t>Meets Requirements </a:t>
          </a:r>
          <a:r>
            <a:rPr lang="en-US" dirty="0"/>
            <a:t>- meets the purposes and requirements of IDEA B.</a:t>
          </a:r>
          <a:endParaRPr lang="en-US" b="1" dirty="0"/>
        </a:p>
      </dgm:t>
    </dgm:pt>
    <dgm:pt modelId="{11850DEF-5218-42D5-BE57-966980DBCB77}" type="parTrans" cxnId="{4C5A7D07-8B73-4A2A-ABC1-27E48D7354F6}">
      <dgm:prSet/>
      <dgm:spPr/>
      <dgm:t>
        <a:bodyPr/>
        <a:lstStyle/>
        <a:p>
          <a:endParaRPr lang="en-US"/>
        </a:p>
      </dgm:t>
    </dgm:pt>
    <dgm:pt modelId="{AB4305CC-DB96-4E88-939C-DFDAC0898D79}" type="sibTrans" cxnId="{4C5A7D07-8B73-4A2A-ABC1-27E48D7354F6}">
      <dgm:prSet/>
      <dgm:spPr/>
      <dgm:t>
        <a:bodyPr/>
        <a:lstStyle/>
        <a:p>
          <a:endParaRPr lang="en-US"/>
        </a:p>
      </dgm:t>
    </dgm:pt>
    <dgm:pt modelId="{BF0D98F0-2789-4FE8-AABA-2264A0A98227}">
      <dgm:prSet phldrT="[Text]"/>
      <dgm:spPr/>
      <dgm:t>
        <a:bodyPr/>
        <a:lstStyle/>
        <a:p>
          <a:r>
            <a:rPr lang="en-US" b="1" dirty="0"/>
            <a:t>Needs Intervention </a:t>
          </a:r>
          <a:r>
            <a:rPr lang="en-US" dirty="0"/>
            <a:t>- in implementing the requirements of Part B</a:t>
          </a:r>
        </a:p>
      </dgm:t>
    </dgm:pt>
    <dgm:pt modelId="{89642E90-DFC7-459D-8340-D87C36D32996}" type="parTrans" cxnId="{E1B2771C-506D-4509-BA52-1ACCC4F39B9E}">
      <dgm:prSet/>
      <dgm:spPr/>
      <dgm:t>
        <a:bodyPr/>
        <a:lstStyle/>
        <a:p>
          <a:endParaRPr lang="en-US"/>
        </a:p>
      </dgm:t>
    </dgm:pt>
    <dgm:pt modelId="{C611C32B-9F9B-466C-A418-58ECB8435358}" type="sibTrans" cxnId="{E1B2771C-506D-4509-BA52-1ACCC4F39B9E}">
      <dgm:prSet/>
      <dgm:spPr/>
      <dgm:t>
        <a:bodyPr/>
        <a:lstStyle/>
        <a:p>
          <a:endParaRPr lang="en-US"/>
        </a:p>
      </dgm:t>
    </dgm:pt>
    <dgm:pt modelId="{133CEAD8-97A1-4A51-88B6-9B690B1EA2F1}">
      <dgm:prSet phldrT="[Text]"/>
      <dgm:spPr/>
      <dgm:t>
        <a:bodyPr/>
        <a:lstStyle/>
        <a:p>
          <a:r>
            <a:rPr lang="en-US" b="1" dirty="0"/>
            <a:t>Needs Substantial Intervention </a:t>
          </a:r>
          <a:r>
            <a:rPr lang="en-US" dirty="0"/>
            <a:t>- in implementing the requirements of Part B</a:t>
          </a:r>
        </a:p>
      </dgm:t>
    </dgm:pt>
    <dgm:pt modelId="{87B781EE-8822-4D38-A894-5A5A9AB14C67}" type="parTrans" cxnId="{2EE7DF75-3AA5-4938-9C7E-CF29AB97D771}">
      <dgm:prSet/>
      <dgm:spPr/>
      <dgm:t>
        <a:bodyPr/>
        <a:lstStyle/>
        <a:p>
          <a:endParaRPr lang="en-US"/>
        </a:p>
      </dgm:t>
    </dgm:pt>
    <dgm:pt modelId="{F617739F-31E9-4493-90E1-1894FD62044F}" type="sibTrans" cxnId="{2EE7DF75-3AA5-4938-9C7E-CF29AB97D771}">
      <dgm:prSet/>
      <dgm:spPr/>
      <dgm:t>
        <a:bodyPr/>
        <a:lstStyle/>
        <a:p>
          <a:endParaRPr lang="en-US"/>
        </a:p>
      </dgm:t>
    </dgm:pt>
    <dgm:pt modelId="{7EFCA608-A50D-44B8-83A6-2813DD18B0B9}">
      <dgm:prSet/>
      <dgm:spPr/>
      <dgm:t>
        <a:bodyPr/>
        <a:lstStyle/>
        <a:p>
          <a:r>
            <a:rPr lang="en-US" dirty="0"/>
            <a:t> </a:t>
          </a:r>
          <a:r>
            <a:rPr lang="en-US" b="1" dirty="0"/>
            <a:t>Needs Assistance </a:t>
          </a:r>
          <a:r>
            <a:rPr lang="en-US" dirty="0"/>
            <a:t>- in implementing the requirements of Part B</a:t>
          </a:r>
        </a:p>
      </dgm:t>
    </dgm:pt>
    <dgm:pt modelId="{B07FCD4D-70B6-4105-B628-AC7413F64454}" type="parTrans" cxnId="{77C599E3-E0ED-412A-AB0F-C26F24CE9600}">
      <dgm:prSet/>
      <dgm:spPr/>
      <dgm:t>
        <a:bodyPr/>
        <a:lstStyle/>
        <a:p>
          <a:endParaRPr lang="en-US"/>
        </a:p>
      </dgm:t>
    </dgm:pt>
    <dgm:pt modelId="{52EFC119-8BDB-4CBC-AD57-0829D537FA26}" type="sibTrans" cxnId="{77C599E3-E0ED-412A-AB0F-C26F24CE9600}">
      <dgm:prSet/>
      <dgm:spPr/>
      <dgm:t>
        <a:bodyPr/>
        <a:lstStyle/>
        <a:p>
          <a:endParaRPr lang="en-US"/>
        </a:p>
      </dgm:t>
    </dgm:pt>
    <dgm:pt modelId="{79E26A4D-A003-4706-9E7F-B24182133647}" type="pres">
      <dgm:prSet presAssocID="{6A4480BE-A580-4F0F-9300-3A02C757A2C8}" presName="outerComposite" presStyleCnt="0">
        <dgm:presLayoutVars>
          <dgm:chMax val="5"/>
          <dgm:dir/>
          <dgm:resizeHandles val="exact"/>
        </dgm:presLayoutVars>
      </dgm:prSet>
      <dgm:spPr/>
    </dgm:pt>
    <dgm:pt modelId="{2A1D2B7B-AE9D-42C5-9DD9-3E349DBC9A16}" type="pres">
      <dgm:prSet presAssocID="{6A4480BE-A580-4F0F-9300-3A02C757A2C8}" presName="dummyMaxCanvas" presStyleCnt="0">
        <dgm:presLayoutVars/>
      </dgm:prSet>
      <dgm:spPr/>
    </dgm:pt>
    <dgm:pt modelId="{35A7D3A0-20F5-4926-8B34-A2405C026BA8}" type="pres">
      <dgm:prSet presAssocID="{6A4480BE-A580-4F0F-9300-3A02C757A2C8}" presName="FourNodes_1" presStyleLbl="node1" presStyleIdx="0" presStyleCnt="4" custLinFactNeighborX="-507">
        <dgm:presLayoutVars>
          <dgm:bulletEnabled val="1"/>
        </dgm:presLayoutVars>
      </dgm:prSet>
      <dgm:spPr/>
    </dgm:pt>
    <dgm:pt modelId="{AB5536A1-3005-4DAE-B787-798103961B8D}" type="pres">
      <dgm:prSet presAssocID="{6A4480BE-A580-4F0F-9300-3A02C757A2C8}" presName="FourNodes_2" presStyleLbl="node1" presStyleIdx="1" presStyleCnt="4">
        <dgm:presLayoutVars>
          <dgm:bulletEnabled val="1"/>
        </dgm:presLayoutVars>
      </dgm:prSet>
      <dgm:spPr/>
    </dgm:pt>
    <dgm:pt modelId="{403D62EC-9082-4D4D-BD6D-B1393612C97E}" type="pres">
      <dgm:prSet presAssocID="{6A4480BE-A580-4F0F-9300-3A02C757A2C8}" presName="FourNodes_3" presStyleLbl="node1" presStyleIdx="2" presStyleCnt="4">
        <dgm:presLayoutVars>
          <dgm:bulletEnabled val="1"/>
        </dgm:presLayoutVars>
      </dgm:prSet>
      <dgm:spPr/>
    </dgm:pt>
    <dgm:pt modelId="{0D957A50-5B7D-4AB3-A444-BFA97F4C431C}" type="pres">
      <dgm:prSet presAssocID="{6A4480BE-A580-4F0F-9300-3A02C757A2C8}" presName="FourNodes_4" presStyleLbl="node1" presStyleIdx="3" presStyleCnt="4">
        <dgm:presLayoutVars>
          <dgm:bulletEnabled val="1"/>
        </dgm:presLayoutVars>
      </dgm:prSet>
      <dgm:spPr/>
    </dgm:pt>
    <dgm:pt modelId="{1FFEFC0A-2D4F-4971-82AE-7B4AB8332325}" type="pres">
      <dgm:prSet presAssocID="{6A4480BE-A580-4F0F-9300-3A02C757A2C8}" presName="FourConn_1-2" presStyleLbl="fgAccFollowNode1" presStyleIdx="0" presStyleCnt="3">
        <dgm:presLayoutVars>
          <dgm:bulletEnabled val="1"/>
        </dgm:presLayoutVars>
      </dgm:prSet>
      <dgm:spPr/>
    </dgm:pt>
    <dgm:pt modelId="{32E2D6A9-A478-438D-A831-783B8E27B233}" type="pres">
      <dgm:prSet presAssocID="{6A4480BE-A580-4F0F-9300-3A02C757A2C8}" presName="FourConn_2-3" presStyleLbl="fgAccFollowNode1" presStyleIdx="1" presStyleCnt="3">
        <dgm:presLayoutVars>
          <dgm:bulletEnabled val="1"/>
        </dgm:presLayoutVars>
      </dgm:prSet>
      <dgm:spPr/>
    </dgm:pt>
    <dgm:pt modelId="{EEC71F1D-5104-47F8-9952-0F06B45DAE69}" type="pres">
      <dgm:prSet presAssocID="{6A4480BE-A580-4F0F-9300-3A02C757A2C8}" presName="FourConn_3-4" presStyleLbl="fgAccFollowNode1" presStyleIdx="2" presStyleCnt="3">
        <dgm:presLayoutVars>
          <dgm:bulletEnabled val="1"/>
        </dgm:presLayoutVars>
      </dgm:prSet>
      <dgm:spPr/>
    </dgm:pt>
    <dgm:pt modelId="{99AF5E83-4E0D-4615-8A65-6D74A5AAC9A4}" type="pres">
      <dgm:prSet presAssocID="{6A4480BE-A580-4F0F-9300-3A02C757A2C8}" presName="FourNodes_1_text" presStyleLbl="node1" presStyleIdx="3" presStyleCnt="4">
        <dgm:presLayoutVars>
          <dgm:bulletEnabled val="1"/>
        </dgm:presLayoutVars>
      </dgm:prSet>
      <dgm:spPr/>
    </dgm:pt>
    <dgm:pt modelId="{3EB765E2-5769-4A8F-8363-07C353008E60}" type="pres">
      <dgm:prSet presAssocID="{6A4480BE-A580-4F0F-9300-3A02C757A2C8}" presName="FourNodes_2_text" presStyleLbl="node1" presStyleIdx="3" presStyleCnt="4">
        <dgm:presLayoutVars>
          <dgm:bulletEnabled val="1"/>
        </dgm:presLayoutVars>
      </dgm:prSet>
      <dgm:spPr/>
    </dgm:pt>
    <dgm:pt modelId="{858C831A-0DB5-428F-A444-0E0B5FF7E83C}" type="pres">
      <dgm:prSet presAssocID="{6A4480BE-A580-4F0F-9300-3A02C757A2C8}" presName="FourNodes_3_text" presStyleLbl="node1" presStyleIdx="3" presStyleCnt="4">
        <dgm:presLayoutVars>
          <dgm:bulletEnabled val="1"/>
        </dgm:presLayoutVars>
      </dgm:prSet>
      <dgm:spPr/>
    </dgm:pt>
    <dgm:pt modelId="{23013462-9289-483F-8113-C6F707AA2F15}" type="pres">
      <dgm:prSet presAssocID="{6A4480BE-A580-4F0F-9300-3A02C757A2C8}" presName="FourNodes_4_text" presStyleLbl="node1" presStyleIdx="3" presStyleCnt="4">
        <dgm:presLayoutVars>
          <dgm:bulletEnabled val="1"/>
        </dgm:presLayoutVars>
      </dgm:prSet>
      <dgm:spPr/>
    </dgm:pt>
  </dgm:ptLst>
  <dgm:cxnLst>
    <dgm:cxn modelId="{4C5A7D07-8B73-4A2A-ABC1-27E48D7354F6}" srcId="{6A4480BE-A580-4F0F-9300-3A02C757A2C8}" destId="{74328B55-4645-4FA0-BB9C-27A101EA8585}" srcOrd="0" destOrd="0" parTransId="{11850DEF-5218-42D5-BE57-966980DBCB77}" sibTransId="{AB4305CC-DB96-4E88-939C-DFDAC0898D79}"/>
    <dgm:cxn modelId="{E1B2771C-506D-4509-BA52-1ACCC4F39B9E}" srcId="{6A4480BE-A580-4F0F-9300-3A02C757A2C8}" destId="{BF0D98F0-2789-4FE8-AABA-2264A0A98227}" srcOrd="2" destOrd="0" parTransId="{89642E90-DFC7-459D-8340-D87C36D32996}" sibTransId="{C611C32B-9F9B-466C-A418-58ECB8435358}"/>
    <dgm:cxn modelId="{9813BD22-A933-4F1A-ABB2-178E70641EA4}" type="presOf" srcId="{6A4480BE-A580-4F0F-9300-3A02C757A2C8}" destId="{79E26A4D-A003-4706-9E7F-B24182133647}" srcOrd="0" destOrd="0" presId="urn:microsoft.com/office/officeart/2005/8/layout/vProcess5"/>
    <dgm:cxn modelId="{8E034A25-3B50-4DB6-9E53-5D1002CAFFD1}" type="presOf" srcId="{AB4305CC-DB96-4E88-939C-DFDAC0898D79}" destId="{1FFEFC0A-2D4F-4971-82AE-7B4AB8332325}" srcOrd="0" destOrd="0" presId="urn:microsoft.com/office/officeart/2005/8/layout/vProcess5"/>
    <dgm:cxn modelId="{0364F047-665A-4E94-9AF3-2053F2E33F33}" type="presOf" srcId="{BF0D98F0-2789-4FE8-AABA-2264A0A98227}" destId="{403D62EC-9082-4D4D-BD6D-B1393612C97E}" srcOrd="0" destOrd="0" presId="urn:microsoft.com/office/officeart/2005/8/layout/vProcess5"/>
    <dgm:cxn modelId="{2EE7DF75-3AA5-4938-9C7E-CF29AB97D771}" srcId="{6A4480BE-A580-4F0F-9300-3A02C757A2C8}" destId="{133CEAD8-97A1-4A51-88B6-9B690B1EA2F1}" srcOrd="3" destOrd="0" parTransId="{87B781EE-8822-4D38-A894-5A5A9AB14C67}" sibTransId="{F617739F-31E9-4493-90E1-1894FD62044F}"/>
    <dgm:cxn modelId="{94A0D87E-C7D7-432F-95DF-6677075E4C09}" type="presOf" srcId="{7EFCA608-A50D-44B8-83A6-2813DD18B0B9}" destId="{3EB765E2-5769-4A8F-8363-07C353008E60}" srcOrd="1" destOrd="0" presId="urn:microsoft.com/office/officeart/2005/8/layout/vProcess5"/>
    <dgm:cxn modelId="{EEE43191-B504-4C9F-8015-B4A58012DA6D}" type="presOf" srcId="{74328B55-4645-4FA0-BB9C-27A101EA8585}" destId="{99AF5E83-4E0D-4615-8A65-6D74A5AAC9A4}" srcOrd="1" destOrd="0" presId="urn:microsoft.com/office/officeart/2005/8/layout/vProcess5"/>
    <dgm:cxn modelId="{6F06BC92-8AF2-40C4-804B-9D312952CF0C}" type="presOf" srcId="{7EFCA608-A50D-44B8-83A6-2813DD18B0B9}" destId="{AB5536A1-3005-4DAE-B787-798103961B8D}" srcOrd="0" destOrd="0" presId="urn:microsoft.com/office/officeart/2005/8/layout/vProcess5"/>
    <dgm:cxn modelId="{9A756D9C-343B-4EAC-8DC8-E6A30B6E910C}" type="presOf" srcId="{74328B55-4645-4FA0-BB9C-27A101EA8585}" destId="{35A7D3A0-20F5-4926-8B34-A2405C026BA8}" srcOrd="0" destOrd="0" presId="urn:microsoft.com/office/officeart/2005/8/layout/vProcess5"/>
    <dgm:cxn modelId="{DA3D52AB-0DD0-477C-A9C7-31A88783A12B}" type="presOf" srcId="{52EFC119-8BDB-4CBC-AD57-0829D537FA26}" destId="{32E2D6A9-A478-438D-A831-783B8E27B233}" srcOrd="0" destOrd="0" presId="urn:microsoft.com/office/officeart/2005/8/layout/vProcess5"/>
    <dgm:cxn modelId="{4A6957B6-A980-432D-BCCE-A03612FDCB7C}" type="presOf" srcId="{C611C32B-9F9B-466C-A418-58ECB8435358}" destId="{EEC71F1D-5104-47F8-9952-0F06B45DAE69}" srcOrd="0" destOrd="0" presId="urn:microsoft.com/office/officeart/2005/8/layout/vProcess5"/>
    <dgm:cxn modelId="{0C7396C8-3F57-4417-B082-54F69AB71B67}" type="presOf" srcId="{133CEAD8-97A1-4A51-88B6-9B690B1EA2F1}" destId="{0D957A50-5B7D-4AB3-A444-BFA97F4C431C}" srcOrd="0" destOrd="0" presId="urn:microsoft.com/office/officeart/2005/8/layout/vProcess5"/>
    <dgm:cxn modelId="{0BA9C5C9-6A42-4FA5-B812-BB7430453A75}" type="presOf" srcId="{133CEAD8-97A1-4A51-88B6-9B690B1EA2F1}" destId="{23013462-9289-483F-8113-C6F707AA2F15}" srcOrd="1" destOrd="0" presId="urn:microsoft.com/office/officeart/2005/8/layout/vProcess5"/>
    <dgm:cxn modelId="{0CA06BD5-9B37-4B1A-9DDB-EF185EB00091}" type="presOf" srcId="{BF0D98F0-2789-4FE8-AABA-2264A0A98227}" destId="{858C831A-0DB5-428F-A444-0E0B5FF7E83C}" srcOrd="1" destOrd="0" presId="urn:microsoft.com/office/officeart/2005/8/layout/vProcess5"/>
    <dgm:cxn modelId="{77C599E3-E0ED-412A-AB0F-C26F24CE9600}" srcId="{6A4480BE-A580-4F0F-9300-3A02C757A2C8}" destId="{7EFCA608-A50D-44B8-83A6-2813DD18B0B9}" srcOrd="1" destOrd="0" parTransId="{B07FCD4D-70B6-4105-B628-AC7413F64454}" sibTransId="{52EFC119-8BDB-4CBC-AD57-0829D537FA26}"/>
    <dgm:cxn modelId="{313BD8F6-5511-43D2-8008-D0B71B6C1CE9}" type="presParOf" srcId="{79E26A4D-A003-4706-9E7F-B24182133647}" destId="{2A1D2B7B-AE9D-42C5-9DD9-3E349DBC9A16}" srcOrd="0" destOrd="0" presId="urn:microsoft.com/office/officeart/2005/8/layout/vProcess5"/>
    <dgm:cxn modelId="{4F6D3D2A-2E74-42BD-AC29-C8CD17D52364}" type="presParOf" srcId="{79E26A4D-A003-4706-9E7F-B24182133647}" destId="{35A7D3A0-20F5-4926-8B34-A2405C026BA8}" srcOrd="1" destOrd="0" presId="urn:microsoft.com/office/officeart/2005/8/layout/vProcess5"/>
    <dgm:cxn modelId="{A649D96C-622C-4148-8880-4F4FD15719E5}" type="presParOf" srcId="{79E26A4D-A003-4706-9E7F-B24182133647}" destId="{AB5536A1-3005-4DAE-B787-798103961B8D}" srcOrd="2" destOrd="0" presId="urn:microsoft.com/office/officeart/2005/8/layout/vProcess5"/>
    <dgm:cxn modelId="{B0BF4B92-A330-4BC2-9B35-7CF9B20DDEE7}" type="presParOf" srcId="{79E26A4D-A003-4706-9E7F-B24182133647}" destId="{403D62EC-9082-4D4D-BD6D-B1393612C97E}" srcOrd="3" destOrd="0" presId="urn:microsoft.com/office/officeart/2005/8/layout/vProcess5"/>
    <dgm:cxn modelId="{A881F27E-21C3-451F-BAAD-5055F53080E0}" type="presParOf" srcId="{79E26A4D-A003-4706-9E7F-B24182133647}" destId="{0D957A50-5B7D-4AB3-A444-BFA97F4C431C}" srcOrd="4" destOrd="0" presId="urn:microsoft.com/office/officeart/2005/8/layout/vProcess5"/>
    <dgm:cxn modelId="{96974671-6E33-4EE2-AF38-8EC1D311EC6B}" type="presParOf" srcId="{79E26A4D-A003-4706-9E7F-B24182133647}" destId="{1FFEFC0A-2D4F-4971-82AE-7B4AB8332325}" srcOrd="5" destOrd="0" presId="urn:microsoft.com/office/officeart/2005/8/layout/vProcess5"/>
    <dgm:cxn modelId="{0D5D6C10-9AC4-46F7-A5C1-E87DC0A599EC}" type="presParOf" srcId="{79E26A4D-A003-4706-9E7F-B24182133647}" destId="{32E2D6A9-A478-438D-A831-783B8E27B233}" srcOrd="6" destOrd="0" presId="urn:microsoft.com/office/officeart/2005/8/layout/vProcess5"/>
    <dgm:cxn modelId="{C8A2BA66-79FD-44ED-9D9A-AAAE557F418A}" type="presParOf" srcId="{79E26A4D-A003-4706-9E7F-B24182133647}" destId="{EEC71F1D-5104-47F8-9952-0F06B45DAE69}" srcOrd="7" destOrd="0" presId="urn:microsoft.com/office/officeart/2005/8/layout/vProcess5"/>
    <dgm:cxn modelId="{315A4EF8-9C3D-48B0-A425-3EC6C6FFECBC}" type="presParOf" srcId="{79E26A4D-A003-4706-9E7F-B24182133647}" destId="{99AF5E83-4E0D-4615-8A65-6D74A5AAC9A4}" srcOrd="8" destOrd="0" presId="urn:microsoft.com/office/officeart/2005/8/layout/vProcess5"/>
    <dgm:cxn modelId="{F5AE550E-A82E-4D26-8EFC-CEE18F5BD853}" type="presParOf" srcId="{79E26A4D-A003-4706-9E7F-B24182133647}" destId="{3EB765E2-5769-4A8F-8363-07C353008E60}" srcOrd="9" destOrd="0" presId="urn:microsoft.com/office/officeart/2005/8/layout/vProcess5"/>
    <dgm:cxn modelId="{A77CDA19-919D-4ABC-88D5-52CF6709F417}" type="presParOf" srcId="{79E26A4D-A003-4706-9E7F-B24182133647}" destId="{858C831A-0DB5-428F-A444-0E0B5FF7E83C}" srcOrd="10" destOrd="0" presId="urn:microsoft.com/office/officeart/2005/8/layout/vProcess5"/>
    <dgm:cxn modelId="{FBAE80F5-DF2E-45A7-B9A0-54B1AF23EF14}" type="presParOf" srcId="{79E26A4D-A003-4706-9E7F-B24182133647}" destId="{23013462-9289-483F-8113-C6F707AA2F15}" srcOrd="11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73E5774-8A46-47E8-915C-B5A3217F40FD}" type="doc">
      <dgm:prSet loTypeId="urn:microsoft.com/office/officeart/2005/8/layout/hProcess4" loCatId="process" qsTypeId="urn:microsoft.com/office/officeart/2005/8/quickstyle/simple1" qsCatId="simple" csTypeId="urn:microsoft.com/office/officeart/2005/8/colors/accent5_4" csCatId="accent5" phldr="1"/>
      <dgm:spPr/>
      <dgm:t>
        <a:bodyPr/>
        <a:lstStyle/>
        <a:p>
          <a:endParaRPr lang="en-US"/>
        </a:p>
      </dgm:t>
    </dgm:pt>
    <dgm:pt modelId="{C7359042-867E-4AA7-9E17-F20F4D3BCD44}">
      <dgm:prSet phldrT="[Text]"/>
      <dgm:spPr/>
      <dgm:t>
        <a:bodyPr/>
        <a:lstStyle/>
        <a:p>
          <a:r>
            <a:rPr lang="en-US" dirty="0"/>
            <a:t>Compliance Indicators</a:t>
          </a:r>
        </a:p>
      </dgm:t>
    </dgm:pt>
    <dgm:pt modelId="{EDFD2D05-D3B7-4420-9E50-E3D473A9B4B1}" type="parTrans" cxnId="{B6142DE4-CD05-4C4B-8BE5-759A52B7D6BE}">
      <dgm:prSet/>
      <dgm:spPr/>
      <dgm:t>
        <a:bodyPr/>
        <a:lstStyle/>
        <a:p>
          <a:endParaRPr lang="en-US"/>
        </a:p>
      </dgm:t>
    </dgm:pt>
    <dgm:pt modelId="{28BA66F0-AAFF-4894-AA3B-CF71EA6B03FE}" type="sibTrans" cxnId="{B6142DE4-CD05-4C4B-8BE5-759A52B7D6BE}">
      <dgm:prSet/>
      <dgm:spPr/>
      <dgm:t>
        <a:bodyPr/>
        <a:lstStyle/>
        <a:p>
          <a:endParaRPr lang="en-US"/>
        </a:p>
      </dgm:t>
    </dgm:pt>
    <dgm:pt modelId="{D02E2C30-E47A-423A-B0C4-212D8F89978E}">
      <dgm:prSet phldrT="[Text]"/>
      <dgm:spPr/>
      <dgm:t>
        <a:bodyPr/>
        <a:lstStyle/>
        <a:p>
          <a:r>
            <a:rPr lang="en-US" dirty="0"/>
            <a:t>Indicators 4B, 9, 10, 11,12,13</a:t>
          </a:r>
        </a:p>
      </dgm:t>
    </dgm:pt>
    <dgm:pt modelId="{D284FAA5-433E-465B-BBB2-BDD17AF4989E}" type="parTrans" cxnId="{8125809F-31AA-4BF8-87C5-F5D0AC73D748}">
      <dgm:prSet/>
      <dgm:spPr/>
      <dgm:t>
        <a:bodyPr/>
        <a:lstStyle/>
        <a:p>
          <a:endParaRPr lang="en-US"/>
        </a:p>
      </dgm:t>
    </dgm:pt>
    <dgm:pt modelId="{32DD1BA4-4559-44EC-9413-ADC27DEB27AE}" type="sibTrans" cxnId="{8125809F-31AA-4BF8-87C5-F5D0AC73D748}">
      <dgm:prSet/>
      <dgm:spPr/>
      <dgm:t>
        <a:bodyPr/>
        <a:lstStyle/>
        <a:p>
          <a:endParaRPr lang="en-US"/>
        </a:p>
      </dgm:t>
    </dgm:pt>
    <dgm:pt modelId="{DA751AC3-88FA-4E00-BD7A-95B2BABA0D69}">
      <dgm:prSet phldrT="[Text]"/>
      <dgm:spPr/>
      <dgm:t>
        <a:bodyPr/>
        <a:lstStyle/>
        <a:p>
          <a:r>
            <a:rPr lang="en-US" dirty="0"/>
            <a:t>Correction/Continuation of Non-Compliance</a:t>
          </a:r>
        </a:p>
      </dgm:t>
    </dgm:pt>
    <dgm:pt modelId="{8D60B826-68F0-4F57-BD55-C1A578A94E67}" type="parTrans" cxnId="{56DB55FC-8A8A-4F73-A02E-54E0EB6DFA57}">
      <dgm:prSet/>
      <dgm:spPr/>
      <dgm:t>
        <a:bodyPr/>
        <a:lstStyle/>
        <a:p>
          <a:endParaRPr lang="en-US"/>
        </a:p>
      </dgm:t>
    </dgm:pt>
    <dgm:pt modelId="{0D336D50-F85B-408C-8D96-66AB7993C549}" type="sibTrans" cxnId="{56DB55FC-8A8A-4F73-A02E-54E0EB6DFA57}">
      <dgm:prSet/>
      <dgm:spPr/>
      <dgm:t>
        <a:bodyPr/>
        <a:lstStyle/>
        <a:p>
          <a:endParaRPr lang="en-US"/>
        </a:p>
      </dgm:t>
    </dgm:pt>
    <dgm:pt modelId="{5503B848-45CC-451C-97A6-BBD4369DAB88}">
      <dgm:prSet phldrT="[Text]"/>
      <dgm:spPr/>
      <dgm:t>
        <a:bodyPr/>
        <a:lstStyle/>
        <a:p>
          <a:r>
            <a:rPr lang="en-US" dirty="0"/>
            <a:t>Previous findings of non-compliance are corrected</a:t>
          </a:r>
        </a:p>
      </dgm:t>
    </dgm:pt>
    <dgm:pt modelId="{1717E3EE-C375-46AD-9965-D8F7F17990C6}" type="parTrans" cxnId="{EDAAABF9-A58B-4069-962F-3B00C615FF12}">
      <dgm:prSet/>
      <dgm:spPr/>
      <dgm:t>
        <a:bodyPr/>
        <a:lstStyle/>
        <a:p>
          <a:endParaRPr lang="en-US"/>
        </a:p>
      </dgm:t>
    </dgm:pt>
    <dgm:pt modelId="{C562343C-834B-4D9A-863C-48CAA1F0B685}" type="sibTrans" cxnId="{EDAAABF9-A58B-4069-962F-3B00C615FF12}">
      <dgm:prSet/>
      <dgm:spPr/>
      <dgm:t>
        <a:bodyPr/>
        <a:lstStyle/>
        <a:p>
          <a:endParaRPr lang="en-US"/>
        </a:p>
      </dgm:t>
    </dgm:pt>
    <dgm:pt modelId="{61018AA8-03F4-4289-B6FD-3FB780863D6B}">
      <dgm:prSet phldrT="[Text]"/>
      <dgm:spPr/>
      <dgm:t>
        <a:bodyPr/>
        <a:lstStyle/>
        <a:p>
          <a:r>
            <a:rPr lang="en-US" dirty="0"/>
            <a:t>Other Relevant Items</a:t>
          </a:r>
        </a:p>
      </dgm:t>
    </dgm:pt>
    <dgm:pt modelId="{79D6C68D-1D80-4836-885D-E530CD9B7751}" type="parTrans" cxnId="{EBEB6410-40D4-4083-A388-14CA78CD127C}">
      <dgm:prSet/>
      <dgm:spPr/>
      <dgm:t>
        <a:bodyPr/>
        <a:lstStyle/>
        <a:p>
          <a:endParaRPr lang="en-US"/>
        </a:p>
      </dgm:t>
    </dgm:pt>
    <dgm:pt modelId="{B3E02691-4FA7-4DC4-8025-FF78B19DAACD}" type="sibTrans" cxnId="{EBEB6410-40D4-4083-A388-14CA78CD127C}">
      <dgm:prSet/>
      <dgm:spPr/>
      <dgm:t>
        <a:bodyPr/>
        <a:lstStyle/>
        <a:p>
          <a:endParaRPr lang="en-US"/>
        </a:p>
      </dgm:t>
    </dgm:pt>
    <dgm:pt modelId="{F038F5C2-858A-426E-A036-63F8DC7318A9}">
      <dgm:prSet phldrT="[Text]"/>
      <dgm:spPr/>
      <dgm:t>
        <a:bodyPr/>
        <a:lstStyle/>
        <a:p>
          <a:r>
            <a:rPr lang="en-US" dirty="0"/>
            <a:t>Fiscal Audit Finding(s)</a:t>
          </a:r>
        </a:p>
      </dgm:t>
    </dgm:pt>
    <dgm:pt modelId="{35FA505C-0AE9-474D-9D11-2EB9F95DCE85}" type="parTrans" cxnId="{8CB1769C-29E8-4441-B763-291ADBECC5E3}">
      <dgm:prSet/>
      <dgm:spPr/>
      <dgm:t>
        <a:bodyPr/>
        <a:lstStyle/>
        <a:p>
          <a:endParaRPr lang="en-US"/>
        </a:p>
      </dgm:t>
    </dgm:pt>
    <dgm:pt modelId="{71190A68-3647-4FF9-9DE0-FF3CB9E7263C}" type="sibTrans" cxnId="{8CB1769C-29E8-4441-B763-291ADBECC5E3}">
      <dgm:prSet/>
      <dgm:spPr/>
      <dgm:t>
        <a:bodyPr/>
        <a:lstStyle/>
        <a:p>
          <a:endParaRPr lang="en-US"/>
        </a:p>
      </dgm:t>
    </dgm:pt>
    <dgm:pt modelId="{3207586A-98CE-4C02-A304-7A4EEE985879}">
      <dgm:prSet/>
      <dgm:spPr/>
      <dgm:t>
        <a:bodyPr/>
        <a:lstStyle/>
        <a:p>
          <a:r>
            <a:rPr lang="en-US" dirty="0"/>
            <a:t>Data Submissions</a:t>
          </a:r>
        </a:p>
      </dgm:t>
    </dgm:pt>
    <dgm:pt modelId="{55719EBD-57B3-4493-811A-E00C95C832FA}" type="parTrans" cxnId="{11549F52-AD45-493A-8BCC-BEA34F651D50}">
      <dgm:prSet/>
      <dgm:spPr/>
      <dgm:t>
        <a:bodyPr/>
        <a:lstStyle/>
        <a:p>
          <a:endParaRPr lang="en-US"/>
        </a:p>
      </dgm:t>
    </dgm:pt>
    <dgm:pt modelId="{81E001B7-88D3-44E3-9302-0BF5660D21E9}" type="sibTrans" cxnId="{11549F52-AD45-493A-8BCC-BEA34F651D50}">
      <dgm:prSet/>
      <dgm:spPr/>
      <dgm:t>
        <a:bodyPr/>
        <a:lstStyle/>
        <a:p>
          <a:endParaRPr lang="en-US"/>
        </a:p>
      </dgm:t>
    </dgm:pt>
    <dgm:pt modelId="{9F5308CA-1972-431A-A9BD-4AD22D37BA5F}">
      <dgm:prSet/>
      <dgm:spPr/>
      <dgm:t>
        <a:bodyPr/>
        <a:lstStyle/>
        <a:p>
          <a:r>
            <a:rPr lang="en-US" dirty="0"/>
            <a:t>Valid</a:t>
          </a:r>
        </a:p>
      </dgm:t>
    </dgm:pt>
    <dgm:pt modelId="{7F20F480-F26D-4665-905B-946EA4C4C277}" type="parTrans" cxnId="{382B3DBB-1928-480D-822A-B68E338866E1}">
      <dgm:prSet/>
      <dgm:spPr/>
      <dgm:t>
        <a:bodyPr/>
        <a:lstStyle/>
        <a:p>
          <a:endParaRPr lang="en-US"/>
        </a:p>
      </dgm:t>
    </dgm:pt>
    <dgm:pt modelId="{341EF5A5-E040-45CD-BD8A-3EDA84B441CC}" type="sibTrans" cxnId="{382B3DBB-1928-480D-822A-B68E338866E1}">
      <dgm:prSet/>
      <dgm:spPr/>
      <dgm:t>
        <a:bodyPr/>
        <a:lstStyle/>
        <a:p>
          <a:endParaRPr lang="en-US"/>
        </a:p>
      </dgm:t>
    </dgm:pt>
    <dgm:pt modelId="{2198CEC1-90BB-449A-B706-47C40C4C5551}">
      <dgm:prSet/>
      <dgm:spPr/>
      <dgm:t>
        <a:bodyPr/>
        <a:lstStyle/>
        <a:p>
          <a:r>
            <a:rPr lang="en-US" dirty="0"/>
            <a:t>Reliable</a:t>
          </a:r>
        </a:p>
      </dgm:t>
    </dgm:pt>
    <dgm:pt modelId="{54BA92C9-6BFA-42C6-AD03-5C16D02BFF90}" type="parTrans" cxnId="{D5C81900-AD14-4FFC-8CEB-4206EEAEC726}">
      <dgm:prSet/>
      <dgm:spPr/>
      <dgm:t>
        <a:bodyPr/>
        <a:lstStyle/>
        <a:p>
          <a:endParaRPr lang="en-US"/>
        </a:p>
      </dgm:t>
    </dgm:pt>
    <dgm:pt modelId="{17553564-8A1F-4505-A777-A977BBFCD755}" type="sibTrans" cxnId="{D5C81900-AD14-4FFC-8CEB-4206EEAEC726}">
      <dgm:prSet/>
      <dgm:spPr/>
      <dgm:t>
        <a:bodyPr/>
        <a:lstStyle/>
        <a:p>
          <a:endParaRPr lang="en-US"/>
        </a:p>
      </dgm:t>
    </dgm:pt>
    <dgm:pt modelId="{BC7E8BA5-331B-40A3-8593-B95647DED3F1}">
      <dgm:prSet/>
      <dgm:spPr/>
      <dgm:t>
        <a:bodyPr/>
        <a:lstStyle/>
        <a:p>
          <a:r>
            <a:rPr lang="en-US" dirty="0"/>
            <a:t>Timely</a:t>
          </a:r>
        </a:p>
      </dgm:t>
    </dgm:pt>
    <dgm:pt modelId="{5015873A-57DE-4703-A1DF-D14A95911999}" type="parTrans" cxnId="{EE6321DF-6548-4ADF-97C6-BF7A55360A64}">
      <dgm:prSet/>
      <dgm:spPr/>
      <dgm:t>
        <a:bodyPr/>
        <a:lstStyle/>
        <a:p>
          <a:endParaRPr lang="en-US"/>
        </a:p>
      </dgm:t>
    </dgm:pt>
    <dgm:pt modelId="{E4733034-C329-4A32-9F3C-CDEB35E7D4C7}" type="sibTrans" cxnId="{EE6321DF-6548-4ADF-97C6-BF7A55360A64}">
      <dgm:prSet/>
      <dgm:spPr/>
      <dgm:t>
        <a:bodyPr/>
        <a:lstStyle/>
        <a:p>
          <a:endParaRPr lang="en-US"/>
        </a:p>
      </dgm:t>
    </dgm:pt>
    <dgm:pt modelId="{E405DFBE-E32F-4B7B-974B-5F1DC98FD6B0}" type="pres">
      <dgm:prSet presAssocID="{B73E5774-8A46-47E8-915C-B5A3217F40FD}" presName="Name0" presStyleCnt="0">
        <dgm:presLayoutVars>
          <dgm:dir/>
          <dgm:animLvl val="lvl"/>
          <dgm:resizeHandles val="exact"/>
        </dgm:presLayoutVars>
      </dgm:prSet>
      <dgm:spPr/>
    </dgm:pt>
    <dgm:pt modelId="{8F328269-25CC-48AF-944E-42A8B0275E9A}" type="pres">
      <dgm:prSet presAssocID="{B73E5774-8A46-47E8-915C-B5A3217F40FD}" presName="tSp" presStyleCnt="0"/>
      <dgm:spPr/>
    </dgm:pt>
    <dgm:pt modelId="{E971F234-91E6-4F7B-B74B-8640863620A9}" type="pres">
      <dgm:prSet presAssocID="{B73E5774-8A46-47E8-915C-B5A3217F40FD}" presName="bSp" presStyleCnt="0"/>
      <dgm:spPr/>
    </dgm:pt>
    <dgm:pt modelId="{979ED729-4EC0-4F1D-9B55-F48CF0438D4F}" type="pres">
      <dgm:prSet presAssocID="{B73E5774-8A46-47E8-915C-B5A3217F40FD}" presName="process" presStyleCnt="0"/>
      <dgm:spPr/>
    </dgm:pt>
    <dgm:pt modelId="{E1DFFDBE-D1C0-4EED-A682-6BEF6063790B}" type="pres">
      <dgm:prSet presAssocID="{C7359042-867E-4AA7-9E17-F20F4D3BCD44}" presName="composite1" presStyleCnt="0"/>
      <dgm:spPr/>
    </dgm:pt>
    <dgm:pt modelId="{3498EA33-22F1-49F0-B800-D6F15640ABCC}" type="pres">
      <dgm:prSet presAssocID="{C7359042-867E-4AA7-9E17-F20F4D3BCD44}" presName="dummyNode1" presStyleLbl="node1" presStyleIdx="0" presStyleCnt="4"/>
      <dgm:spPr/>
    </dgm:pt>
    <dgm:pt modelId="{9A90F541-2A62-47D2-BB34-122BB94E7A8E}" type="pres">
      <dgm:prSet presAssocID="{C7359042-867E-4AA7-9E17-F20F4D3BCD44}" presName="childNode1" presStyleLbl="bgAcc1" presStyleIdx="0" presStyleCnt="4">
        <dgm:presLayoutVars>
          <dgm:bulletEnabled val="1"/>
        </dgm:presLayoutVars>
      </dgm:prSet>
      <dgm:spPr/>
    </dgm:pt>
    <dgm:pt modelId="{B2293C44-FD2C-4795-BA0C-3BB4D26E3B77}" type="pres">
      <dgm:prSet presAssocID="{C7359042-867E-4AA7-9E17-F20F4D3BCD44}" presName="childNode1tx" presStyleLbl="bgAcc1" presStyleIdx="0" presStyleCnt="4">
        <dgm:presLayoutVars>
          <dgm:bulletEnabled val="1"/>
        </dgm:presLayoutVars>
      </dgm:prSet>
      <dgm:spPr/>
    </dgm:pt>
    <dgm:pt modelId="{C2C78F12-6EF2-4EF9-979E-8076E925EE29}" type="pres">
      <dgm:prSet presAssocID="{C7359042-867E-4AA7-9E17-F20F4D3BCD44}" presName="parentNode1" presStyleLbl="node1" presStyleIdx="0" presStyleCnt="4">
        <dgm:presLayoutVars>
          <dgm:chMax val="1"/>
          <dgm:bulletEnabled val="1"/>
        </dgm:presLayoutVars>
      </dgm:prSet>
      <dgm:spPr/>
    </dgm:pt>
    <dgm:pt modelId="{E39A3F46-89F8-4DF8-BF7E-9859AAC6E488}" type="pres">
      <dgm:prSet presAssocID="{C7359042-867E-4AA7-9E17-F20F4D3BCD44}" presName="connSite1" presStyleCnt="0"/>
      <dgm:spPr/>
    </dgm:pt>
    <dgm:pt modelId="{551F8A1E-6CFF-4DA0-ACB5-641BB5831E94}" type="pres">
      <dgm:prSet presAssocID="{28BA66F0-AAFF-4894-AA3B-CF71EA6B03FE}" presName="Name9" presStyleLbl="sibTrans2D1" presStyleIdx="0" presStyleCnt="3"/>
      <dgm:spPr/>
    </dgm:pt>
    <dgm:pt modelId="{32F9CCD5-10C7-4F44-91C1-928D5A2982EA}" type="pres">
      <dgm:prSet presAssocID="{3207586A-98CE-4C02-A304-7A4EEE985879}" presName="composite2" presStyleCnt="0"/>
      <dgm:spPr/>
    </dgm:pt>
    <dgm:pt modelId="{B33CFF0C-DEBA-46E0-BD9B-184DAD69ED47}" type="pres">
      <dgm:prSet presAssocID="{3207586A-98CE-4C02-A304-7A4EEE985879}" presName="dummyNode2" presStyleLbl="node1" presStyleIdx="0" presStyleCnt="4"/>
      <dgm:spPr/>
    </dgm:pt>
    <dgm:pt modelId="{3D9B4067-A263-45EF-B64E-4B0AA522E83E}" type="pres">
      <dgm:prSet presAssocID="{3207586A-98CE-4C02-A304-7A4EEE985879}" presName="childNode2" presStyleLbl="bgAcc1" presStyleIdx="1" presStyleCnt="4" custLinFactNeighborX="-548" custLinFactNeighborY="-1994">
        <dgm:presLayoutVars>
          <dgm:bulletEnabled val="1"/>
        </dgm:presLayoutVars>
      </dgm:prSet>
      <dgm:spPr/>
    </dgm:pt>
    <dgm:pt modelId="{1527873A-2962-4A34-B385-02BED2E83CC8}" type="pres">
      <dgm:prSet presAssocID="{3207586A-98CE-4C02-A304-7A4EEE985879}" presName="childNode2tx" presStyleLbl="bgAcc1" presStyleIdx="1" presStyleCnt="4">
        <dgm:presLayoutVars>
          <dgm:bulletEnabled val="1"/>
        </dgm:presLayoutVars>
      </dgm:prSet>
      <dgm:spPr/>
    </dgm:pt>
    <dgm:pt modelId="{29E06384-5740-42B7-BE77-739AAB411430}" type="pres">
      <dgm:prSet presAssocID="{3207586A-98CE-4C02-A304-7A4EEE985879}" presName="parentNode2" presStyleLbl="node1" presStyleIdx="1" presStyleCnt="4">
        <dgm:presLayoutVars>
          <dgm:chMax val="0"/>
          <dgm:bulletEnabled val="1"/>
        </dgm:presLayoutVars>
      </dgm:prSet>
      <dgm:spPr/>
    </dgm:pt>
    <dgm:pt modelId="{AFFA9636-43A9-42FA-AF1C-87895690353F}" type="pres">
      <dgm:prSet presAssocID="{3207586A-98CE-4C02-A304-7A4EEE985879}" presName="connSite2" presStyleCnt="0"/>
      <dgm:spPr/>
    </dgm:pt>
    <dgm:pt modelId="{E3C3FD9B-F8E4-4310-B214-5BD1FD1A152A}" type="pres">
      <dgm:prSet presAssocID="{81E001B7-88D3-44E3-9302-0BF5660D21E9}" presName="Name18" presStyleLbl="sibTrans2D1" presStyleIdx="1" presStyleCnt="3"/>
      <dgm:spPr/>
    </dgm:pt>
    <dgm:pt modelId="{D7D1A5F8-39A3-4FF5-B2C2-BDBE53A34A1A}" type="pres">
      <dgm:prSet presAssocID="{DA751AC3-88FA-4E00-BD7A-95B2BABA0D69}" presName="composite1" presStyleCnt="0"/>
      <dgm:spPr/>
    </dgm:pt>
    <dgm:pt modelId="{F53F98DE-576C-431F-A367-635D81263DE4}" type="pres">
      <dgm:prSet presAssocID="{DA751AC3-88FA-4E00-BD7A-95B2BABA0D69}" presName="dummyNode1" presStyleLbl="node1" presStyleIdx="1" presStyleCnt="4"/>
      <dgm:spPr/>
    </dgm:pt>
    <dgm:pt modelId="{C188E954-62C8-4D6C-A602-B5F6C3F8B099}" type="pres">
      <dgm:prSet presAssocID="{DA751AC3-88FA-4E00-BD7A-95B2BABA0D69}" presName="childNode1" presStyleLbl="bgAcc1" presStyleIdx="2" presStyleCnt="4">
        <dgm:presLayoutVars>
          <dgm:bulletEnabled val="1"/>
        </dgm:presLayoutVars>
      </dgm:prSet>
      <dgm:spPr/>
    </dgm:pt>
    <dgm:pt modelId="{99298031-B0F9-40D1-AAE5-85433AA0BA11}" type="pres">
      <dgm:prSet presAssocID="{DA751AC3-88FA-4E00-BD7A-95B2BABA0D69}" presName="childNode1tx" presStyleLbl="bgAcc1" presStyleIdx="2" presStyleCnt="4">
        <dgm:presLayoutVars>
          <dgm:bulletEnabled val="1"/>
        </dgm:presLayoutVars>
      </dgm:prSet>
      <dgm:spPr/>
    </dgm:pt>
    <dgm:pt modelId="{ED3C5DAC-61E2-44D2-A214-7ECF4CCAD02D}" type="pres">
      <dgm:prSet presAssocID="{DA751AC3-88FA-4E00-BD7A-95B2BABA0D69}" presName="parentNode1" presStyleLbl="node1" presStyleIdx="2" presStyleCnt="4">
        <dgm:presLayoutVars>
          <dgm:chMax val="1"/>
          <dgm:bulletEnabled val="1"/>
        </dgm:presLayoutVars>
      </dgm:prSet>
      <dgm:spPr/>
    </dgm:pt>
    <dgm:pt modelId="{9C8C3660-D99A-46A1-9585-1A3586716C31}" type="pres">
      <dgm:prSet presAssocID="{DA751AC3-88FA-4E00-BD7A-95B2BABA0D69}" presName="connSite1" presStyleCnt="0"/>
      <dgm:spPr/>
    </dgm:pt>
    <dgm:pt modelId="{3F1E93E8-3F3C-4DD8-8A10-AA480D6D6C54}" type="pres">
      <dgm:prSet presAssocID="{0D336D50-F85B-408C-8D96-66AB7993C549}" presName="Name9" presStyleLbl="sibTrans2D1" presStyleIdx="2" presStyleCnt="3"/>
      <dgm:spPr/>
    </dgm:pt>
    <dgm:pt modelId="{6E603495-CA9E-4797-A731-A666FC30856F}" type="pres">
      <dgm:prSet presAssocID="{61018AA8-03F4-4289-B6FD-3FB780863D6B}" presName="composite2" presStyleCnt="0"/>
      <dgm:spPr/>
    </dgm:pt>
    <dgm:pt modelId="{2573856B-2746-42FD-88A7-A06E0675AC27}" type="pres">
      <dgm:prSet presAssocID="{61018AA8-03F4-4289-B6FD-3FB780863D6B}" presName="dummyNode2" presStyleLbl="node1" presStyleIdx="2" presStyleCnt="4"/>
      <dgm:spPr/>
    </dgm:pt>
    <dgm:pt modelId="{ED4120C5-CB7F-4904-8D16-67699CF504C1}" type="pres">
      <dgm:prSet presAssocID="{61018AA8-03F4-4289-B6FD-3FB780863D6B}" presName="childNode2" presStyleLbl="bgAcc1" presStyleIdx="3" presStyleCnt="4">
        <dgm:presLayoutVars>
          <dgm:bulletEnabled val="1"/>
        </dgm:presLayoutVars>
      </dgm:prSet>
      <dgm:spPr/>
    </dgm:pt>
    <dgm:pt modelId="{9C469097-6126-4F6F-AE36-6A7C2EE09BD7}" type="pres">
      <dgm:prSet presAssocID="{61018AA8-03F4-4289-B6FD-3FB780863D6B}" presName="childNode2tx" presStyleLbl="bgAcc1" presStyleIdx="3" presStyleCnt="4">
        <dgm:presLayoutVars>
          <dgm:bulletEnabled val="1"/>
        </dgm:presLayoutVars>
      </dgm:prSet>
      <dgm:spPr/>
    </dgm:pt>
    <dgm:pt modelId="{51CEDACC-3C49-4C30-B086-1DE90683EC78}" type="pres">
      <dgm:prSet presAssocID="{61018AA8-03F4-4289-B6FD-3FB780863D6B}" presName="parentNode2" presStyleLbl="node1" presStyleIdx="3" presStyleCnt="4">
        <dgm:presLayoutVars>
          <dgm:chMax val="0"/>
          <dgm:bulletEnabled val="1"/>
        </dgm:presLayoutVars>
      </dgm:prSet>
      <dgm:spPr/>
    </dgm:pt>
    <dgm:pt modelId="{C62F4FC6-F529-49F9-9288-E4616CDEA0CD}" type="pres">
      <dgm:prSet presAssocID="{61018AA8-03F4-4289-B6FD-3FB780863D6B}" presName="connSite2" presStyleCnt="0"/>
      <dgm:spPr/>
    </dgm:pt>
  </dgm:ptLst>
  <dgm:cxnLst>
    <dgm:cxn modelId="{D5C81900-AD14-4FFC-8CEB-4206EEAEC726}" srcId="{3207586A-98CE-4C02-A304-7A4EEE985879}" destId="{2198CEC1-90BB-449A-B706-47C40C4C5551}" srcOrd="1" destOrd="0" parTransId="{54BA92C9-6BFA-42C6-AD03-5C16D02BFF90}" sibTransId="{17553564-8A1F-4505-A777-A977BBFCD755}"/>
    <dgm:cxn modelId="{599A060D-32E9-48A9-BDE5-E75B61C4D7F3}" type="presOf" srcId="{BC7E8BA5-331B-40A3-8593-B95647DED3F1}" destId="{1527873A-2962-4A34-B385-02BED2E83CC8}" srcOrd="1" destOrd="2" presId="urn:microsoft.com/office/officeart/2005/8/layout/hProcess4"/>
    <dgm:cxn modelId="{BB1D670E-9D49-4478-B9E8-0A5564BB6AE8}" type="presOf" srcId="{2198CEC1-90BB-449A-B706-47C40C4C5551}" destId="{1527873A-2962-4A34-B385-02BED2E83CC8}" srcOrd="1" destOrd="1" presId="urn:microsoft.com/office/officeart/2005/8/layout/hProcess4"/>
    <dgm:cxn modelId="{EBEB6410-40D4-4083-A388-14CA78CD127C}" srcId="{B73E5774-8A46-47E8-915C-B5A3217F40FD}" destId="{61018AA8-03F4-4289-B6FD-3FB780863D6B}" srcOrd="3" destOrd="0" parTransId="{79D6C68D-1D80-4836-885D-E530CD9B7751}" sibTransId="{B3E02691-4FA7-4DC4-8025-FF78B19DAACD}"/>
    <dgm:cxn modelId="{202CC710-6C10-4EB6-8EED-86BA2B465EA7}" type="presOf" srcId="{C7359042-867E-4AA7-9E17-F20F4D3BCD44}" destId="{C2C78F12-6EF2-4EF9-979E-8076E925EE29}" srcOrd="0" destOrd="0" presId="urn:microsoft.com/office/officeart/2005/8/layout/hProcess4"/>
    <dgm:cxn modelId="{69F9E911-6C5E-4635-94FD-3D06D141E4E1}" type="presOf" srcId="{D02E2C30-E47A-423A-B0C4-212D8F89978E}" destId="{9A90F541-2A62-47D2-BB34-122BB94E7A8E}" srcOrd="0" destOrd="0" presId="urn:microsoft.com/office/officeart/2005/8/layout/hProcess4"/>
    <dgm:cxn modelId="{93058528-B6DC-41FF-8B6F-0CBAAF9351F0}" type="presOf" srcId="{81E001B7-88D3-44E3-9302-0BF5660D21E9}" destId="{E3C3FD9B-F8E4-4310-B214-5BD1FD1A152A}" srcOrd="0" destOrd="0" presId="urn:microsoft.com/office/officeart/2005/8/layout/hProcess4"/>
    <dgm:cxn modelId="{48A2572A-4160-4E74-A68D-460700C61FE5}" type="presOf" srcId="{B73E5774-8A46-47E8-915C-B5A3217F40FD}" destId="{E405DFBE-E32F-4B7B-974B-5F1DC98FD6B0}" srcOrd="0" destOrd="0" presId="urn:microsoft.com/office/officeart/2005/8/layout/hProcess4"/>
    <dgm:cxn modelId="{FF451D2D-9CE5-40AF-84B7-E56D6F2D93A5}" type="presOf" srcId="{BC7E8BA5-331B-40A3-8593-B95647DED3F1}" destId="{3D9B4067-A263-45EF-B64E-4B0AA522E83E}" srcOrd="0" destOrd="2" presId="urn:microsoft.com/office/officeart/2005/8/layout/hProcess4"/>
    <dgm:cxn modelId="{7B939569-75C2-4A33-AB5D-1A80204FD957}" type="presOf" srcId="{5503B848-45CC-451C-97A6-BBD4369DAB88}" destId="{C188E954-62C8-4D6C-A602-B5F6C3F8B099}" srcOrd="0" destOrd="0" presId="urn:microsoft.com/office/officeart/2005/8/layout/hProcess4"/>
    <dgm:cxn modelId="{B9062A6C-B794-40D6-AC61-B664C5DB83FD}" type="presOf" srcId="{28BA66F0-AAFF-4894-AA3B-CF71EA6B03FE}" destId="{551F8A1E-6CFF-4DA0-ACB5-641BB5831E94}" srcOrd="0" destOrd="0" presId="urn:microsoft.com/office/officeart/2005/8/layout/hProcess4"/>
    <dgm:cxn modelId="{FDB44850-DC25-47F2-BC7F-E4B9801E2596}" type="presOf" srcId="{D02E2C30-E47A-423A-B0C4-212D8F89978E}" destId="{B2293C44-FD2C-4795-BA0C-3BB4D26E3B77}" srcOrd="1" destOrd="0" presId="urn:microsoft.com/office/officeart/2005/8/layout/hProcess4"/>
    <dgm:cxn modelId="{11549F52-AD45-493A-8BCC-BEA34F651D50}" srcId="{B73E5774-8A46-47E8-915C-B5A3217F40FD}" destId="{3207586A-98CE-4C02-A304-7A4EEE985879}" srcOrd="1" destOrd="0" parTransId="{55719EBD-57B3-4493-811A-E00C95C832FA}" sibTransId="{81E001B7-88D3-44E3-9302-0BF5660D21E9}"/>
    <dgm:cxn modelId="{D64D1358-69F3-4E2D-B7CE-5498E4C7E04E}" type="presOf" srcId="{DA751AC3-88FA-4E00-BD7A-95B2BABA0D69}" destId="{ED3C5DAC-61E2-44D2-A214-7ECF4CCAD02D}" srcOrd="0" destOrd="0" presId="urn:microsoft.com/office/officeart/2005/8/layout/hProcess4"/>
    <dgm:cxn modelId="{F3E96E7A-E8BA-401D-A7DA-3333CC20B901}" type="presOf" srcId="{3207586A-98CE-4C02-A304-7A4EEE985879}" destId="{29E06384-5740-42B7-BE77-739AAB411430}" srcOrd="0" destOrd="0" presId="urn:microsoft.com/office/officeart/2005/8/layout/hProcess4"/>
    <dgm:cxn modelId="{C2B3E697-7792-4B35-A000-07CBE3355253}" type="presOf" srcId="{9F5308CA-1972-431A-A9BD-4AD22D37BA5F}" destId="{3D9B4067-A263-45EF-B64E-4B0AA522E83E}" srcOrd="0" destOrd="0" presId="urn:microsoft.com/office/officeart/2005/8/layout/hProcess4"/>
    <dgm:cxn modelId="{8CB1769C-29E8-4441-B763-291ADBECC5E3}" srcId="{61018AA8-03F4-4289-B6FD-3FB780863D6B}" destId="{F038F5C2-858A-426E-A036-63F8DC7318A9}" srcOrd="0" destOrd="0" parTransId="{35FA505C-0AE9-474D-9D11-2EB9F95DCE85}" sibTransId="{71190A68-3647-4FF9-9DE0-FF3CB9E7263C}"/>
    <dgm:cxn modelId="{8125809F-31AA-4BF8-87C5-F5D0AC73D748}" srcId="{C7359042-867E-4AA7-9E17-F20F4D3BCD44}" destId="{D02E2C30-E47A-423A-B0C4-212D8F89978E}" srcOrd="0" destOrd="0" parTransId="{D284FAA5-433E-465B-BBB2-BDD17AF4989E}" sibTransId="{32DD1BA4-4559-44EC-9413-ADC27DEB27AE}"/>
    <dgm:cxn modelId="{50D458AD-73E0-4842-B5FD-0B3202306C64}" type="presOf" srcId="{0D336D50-F85B-408C-8D96-66AB7993C549}" destId="{3F1E93E8-3F3C-4DD8-8A10-AA480D6D6C54}" srcOrd="0" destOrd="0" presId="urn:microsoft.com/office/officeart/2005/8/layout/hProcess4"/>
    <dgm:cxn modelId="{382B3DBB-1928-480D-822A-B68E338866E1}" srcId="{3207586A-98CE-4C02-A304-7A4EEE985879}" destId="{9F5308CA-1972-431A-A9BD-4AD22D37BA5F}" srcOrd="0" destOrd="0" parTransId="{7F20F480-F26D-4665-905B-946EA4C4C277}" sibTransId="{341EF5A5-E040-45CD-BD8A-3EDA84B441CC}"/>
    <dgm:cxn modelId="{05FE9ACC-2B1C-47DD-8997-89B243C3DA36}" type="presOf" srcId="{9F5308CA-1972-431A-A9BD-4AD22D37BA5F}" destId="{1527873A-2962-4A34-B385-02BED2E83CC8}" srcOrd="1" destOrd="0" presId="urn:microsoft.com/office/officeart/2005/8/layout/hProcess4"/>
    <dgm:cxn modelId="{EE6321DF-6548-4ADF-97C6-BF7A55360A64}" srcId="{3207586A-98CE-4C02-A304-7A4EEE985879}" destId="{BC7E8BA5-331B-40A3-8593-B95647DED3F1}" srcOrd="2" destOrd="0" parTransId="{5015873A-57DE-4703-A1DF-D14A95911999}" sibTransId="{E4733034-C329-4A32-9F3C-CDEB35E7D4C7}"/>
    <dgm:cxn modelId="{92EE10E2-40AB-4711-B99E-9E73B3ACE017}" type="presOf" srcId="{F038F5C2-858A-426E-A036-63F8DC7318A9}" destId="{9C469097-6126-4F6F-AE36-6A7C2EE09BD7}" srcOrd="1" destOrd="0" presId="urn:microsoft.com/office/officeart/2005/8/layout/hProcess4"/>
    <dgm:cxn modelId="{B6142DE4-CD05-4C4B-8BE5-759A52B7D6BE}" srcId="{B73E5774-8A46-47E8-915C-B5A3217F40FD}" destId="{C7359042-867E-4AA7-9E17-F20F4D3BCD44}" srcOrd="0" destOrd="0" parTransId="{EDFD2D05-D3B7-4420-9E50-E3D473A9B4B1}" sibTransId="{28BA66F0-AAFF-4894-AA3B-CF71EA6B03FE}"/>
    <dgm:cxn modelId="{C79372E4-26B0-4890-9EF1-C98AACFF3271}" type="presOf" srcId="{61018AA8-03F4-4289-B6FD-3FB780863D6B}" destId="{51CEDACC-3C49-4C30-B086-1DE90683EC78}" srcOrd="0" destOrd="0" presId="urn:microsoft.com/office/officeart/2005/8/layout/hProcess4"/>
    <dgm:cxn modelId="{79B46FEF-C6C2-4421-857F-03726552CC0A}" type="presOf" srcId="{F038F5C2-858A-426E-A036-63F8DC7318A9}" destId="{ED4120C5-CB7F-4904-8D16-67699CF504C1}" srcOrd="0" destOrd="0" presId="urn:microsoft.com/office/officeart/2005/8/layout/hProcess4"/>
    <dgm:cxn modelId="{77E10EF0-8306-407F-AA36-9DE8862D9A45}" type="presOf" srcId="{2198CEC1-90BB-449A-B706-47C40C4C5551}" destId="{3D9B4067-A263-45EF-B64E-4B0AA522E83E}" srcOrd="0" destOrd="1" presId="urn:microsoft.com/office/officeart/2005/8/layout/hProcess4"/>
    <dgm:cxn modelId="{C909D1F6-B650-4534-A43B-F203D9465928}" type="presOf" srcId="{5503B848-45CC-451C-97A6-BBD4369DAB88}" destId="{99298031-B0F9-40D1-AAE5-85433AA0BA11}" srcOrd="1" destOrd="0" presId="urn:microsoft.com/office/officeart/2005/8/layout/hProcess4"/>
    <dgm:cxn modelId="{EDAAABF9-A58B-4069-962F-3B00C615FF12}" srcId="{DA751AC3-88FA-4E00-BD7A-95B2BABA0D69}" destId="{5503B848-45CC-451C-97A6-BBD4369DAB88}" srcOrd="0" destOrd="0" parTransId="{1717E3EE-C375-46AD-9965-D8F7F17990C6}" sibTransId="{C562343C-834B-4D9A-863C-48CAA1F0B685}"/>
    <dgm:cxn modelId="{56DB55FC-8A8A-4F73-A02E-54E0EB6DFA57}" srcId="{B73E5774-8A46-47E8-915C-B5A3217F40FD}" destId="{DA751AC3-88FA-4E00-BD7A-95B2BABA0D69}" srcOrd="2" destOrd="0" parTransId="{8D60B826-68F0-4F57-BD55-C1A578A94E67}" sibTransId="{0D336D50-F85B-408C-8D96-66AB7993C549}"/>
    <dgm:cxn modelId="{B763E0AA-61CA-4458-ABEC-B538542D8E86}" type="presParOf" srcId="{E405DFBE-E32F-4B7B-974B-5F1DC98FD6B0}" destId="{8F328269-25CC-48AF-944E-42A8B0275E9A}" srcOrd="0" destOrd="0" presId="urn:microsoft.com/office/officeart/2005/8/layout/hProcess4"/>
    <dgm:cxn modelId="{6F1F2FA9-997B-4AD5-96BC-3A36FF4B232D}" type="presParOf" srcId="{E405DFBE-E32F-4B7B-974B-5F1DC98FD6B0}" destId="{E971F234-91E6-4F7B-B74B-8640863620A9}" srcOrd="1" destOrd="0" presId="urn:microsoft.com/office/officeart/2005/8/layout/hProcess4"/>
    <dgm:cxn modelId="{B5F082FB-BC12-40B5-BC76-DA73F76DD750}" type="presParOf" srcId="{E405DFBE-E32F-4B7B-974B-5F1DC98FD6B0}" destId="{979ED729-4EC0-4F1D-9B55-F48CF0438D4F}" srcOrd="2" destOrd="0" presId="urn:microsoft.com/office/officeart/2005/8/layout/hProcess4"/>
    <dgm:cxn modelId="{4A555325-B4DD-4337-B3D1-3D2325B485E7}" type="presParOf" srcId="{979ED729-4EC0-4F1D-9B55-F48CF0438D4F}" destId="{E1DFFDBE-D1C0-4EED-A682-6BEF6063790B}" srcOrd="0" destOrd="0" presId="urn:microsoft.com/office/officeart/2005/8/layout/hProcess4"/>
    <dgm:cxn modelId="{2434EFE1-6CCA-41EB-AFF8-2BC73E27D396}" type="presParOf" srcId="{E1DFFDBE-D1C0-4EED-A682-6BEF6063790B}" destId="{3498EA33-22F1-49F0-B800-D6F15640ABCC}" srcOrd="0" destOrd="0" presId="urn:microsoft.com/office/officeart/2005/8/layout/hProcess4"/>
    <dgm:cxn modelId="{CE450BD9-4DA9-43A5-9EE5-9B9D368D67E8}" type="presParOf" srcId="{E1DFFDBE-D1C0-4EED-A682-6BEF6063790B}" destId="{9A90F541-2A62-47D2-BB34-122BB94E7A8E}" srcOrd="1" destOrd="0" presId="urn:microsoft.com/office/officeart/2005/8/layout/hProcess4"/>
    <dgm:cxn modelId="{3778224D-63C0-4683-B807-591B4D0E07D1}" type="presParOf" srcId="{E1DFFDBE-D1C0-4EED-A682-6BEF6063790B}" destId="{B2293C44-FD2C-4795-BA0C-3BB4D26E3B77}" srcOrd="2" destOrd="0" presId="urn:microsoft.com/office/officeart/2005/8/layout/hProcess4"/>
    <dgm:cxn modelId="{A0351368-1ADA-468A-8A0E-A450FF911B0F}" type="presParOf" srcId="{E1DFFDBE-D1C0-4EED-A682-6BEF6063790B}" destId="{C2C78F12-6EF2-4EF9-979E-8076E925EE29}" srcOrd="3" destOrd="0" presId="urn:microsoft.com/office/officeart/2005/8/layout/hProcess4"/>
    <dgm:cxn modelId="{BBC4ED8D-5093-4C87-BE2D-96502BAAE823}" type="presParOf" srcId="{E1DFFDBE-D1C0-4EED-A682-6BEF6063790B}" destId="{E39A3F46-89F8-4DF8-BF7E-9859AAC6E488}" srcOrd="4" destOrd="0" presId="urn:microsoft.com/office/officeart/2005/8/layout/hProcess4"/>
    <dgm:cxn modelId="{4CA0E304-6F11-4A49-8E64-EC21AD66A830}" type="presParOf" srcId="{979ED729-4EC0-4F1D-9B55-F48CF0438D4F}" destId="{551F8A1E-6CFF-4DA0-ACB5-641BB5831E94}" srcOrd="1" destOrd="0" presId="urn:microsoft.com/office/officeart/2005/8/layout/hProcess4"/>
    <dgm:cxn modelId="{A975400E-9AB0-4E43-A636-16A84E83F7CF}" type="presParOf" srcId="{979ED729-4EC0-4F1D-9B55-F48CF0438D4F}" destId="{32F9CCD5-10C7-4F44-91C1-928D5A2982EA}" srcOrd="2" destOrd="0" presId="urn:microsoft.com/office/officeart/2005/8/layout/hProcess4"/>
    <dgm:cxn modelId="{72496043-A5AF-42DB-917D-F643D9EEB2F9}" type="presParOf" srcId="{32F9CCD5-10C7-4F44-91C1-928D5A2982EA}" destId="{B33CFF0C-DEBA-46E0-BD9B-184DAD69ED47}" srcOrd="0" destOrd="0" presId="urn:microsoft.com/office/officeart/2005/8/layout/hProcess4"/>
    <dgm:cxn modelId="{962EC296-D901-42D7-BB82-EAEC0C442E30}" type="presParOf" srcId="{32F9CCD5-10C7-4F44-91C1-928D5A2982EA}" destId="{3D9B4067-A263-45EF-B64E-4B0AA522E83E}" srcOrd="1" destOrd="0" presId="urn:microsoft.com/office/officeart/2005/8/layout/hProcess4"/>
    <dgm:cxn modelId="{55FBC5C0-62F4-458A-B4C7-EFC1CC5B18C7}" type="presParOf" srcId="{32F9CCD5-10C7-4F44-91C1-928D5A2982EA}" destId="{1527873A-2962-4A34-B385-02BED2E83CC8}" srcOrd="2" destOrd="0" presId="urn:microsoft.com/office/officeart/2005/8/layout/hProcess4"/>
    <dgm:cxn modelId="{66B9EBE0-52B4-43D6-95C1-18216B24166F}" type="presParOf" srcId="{32F9CCD5-10C7-4F44-91C1-928D5A2982EA}" destId="{29E06384-5740-42B7-BE77-739AAB411430}" srcOrd="3" destOrd="0" presId="urn:microsoft.com/office/officeart/2005/8/layout/hProcess4"/>
    <dgm:cxn modelId="{6159758D-EF22-4F7B-BE85-57A726A09AA7}" type="presParOf" srcId="{32F9CCD5-10C7-4F44-91C1-928D5A2982EA}" destId="{AFFA9636-43A9-42FA-AF1C-87895690353F}" srcOrd="4" destOrd="0" presId="urn:microsoft.com/office/officeart/2005/8/layout/hProcess4"/>
    <dgm:cxn modelId="{EFF6194A-A68C-4339-9577-8CCD5494ACD2}" type="presParOf" srcId="{979ED729-4EC0-4F1D-9B55-F48CF0438D4F}" destId="{E3C3FD9B-F8E4-4310-B214-5BD1FD1A152A}" srcOrd="3" destOrd="0" presId="urn:microsoft.com/office/officeart/2005/8/layout/hProcess4"/>
    <dgm:cxn modelId="{3A96A2F3-2B9F-4666-BF18-27829B345A4A}" type="presParOf" srcId="{979ED729-4EC0-4F1D-9B55-F48CF0438D4F}" destId="{D7D1A5F8-39A3-4FF5-B2C2-BDBE53A34A1A}" srcOrd="4" destOrd="0" presId="urn:microsoft.com/office/officeart/2005/8/layout/hProcess4"/>
    <dgm:cxn modelId="{7D59CF87-8845-44C0-8DC2-5B04A2DFE0D2}" type="presParOf" srcId="{D7D1A5F8-39A3-4FF5-B2C2-BDBE53A34A1A}" destId="{F53F98DE-576C-431F-A367-635D81263DE4}" srcOrd="0" destOrd="0" presId="urn:microsoft.com/office/officeart/2005/8/layout/hProcess4"/>
    <dgm:cxn modelId="{C6946651-A31E-4408-8FEC-E9C6259DF572}" type="presParOf" srcId="{D7D1A5F8-39A3-4FF5-B2C2-BDBE53A34A1A}" destId="{C188E954-62C8-4D6C-A602-B5F6C3F8B099}" srcOrd="1" destOrd="0" presId="urn:microsoft.com/office/officeart/2005/8/layout/hProcess4"/>
    <dgm:cxn modelId="{32D00C10-D5DF-4214-9A60-265AC0F75FF7}" type="presParOf" srcId="{D7D1A5F8-39A3-4FF5-B2C2-BDBE53A34A1A}" destId="{99298031-B0F9-40D1-AAE5-85433AA0BA11}" srcOrd="2" destOrd="0" presId="urn:microsoft.com/office/officeart/2005/8/layout/hProcess4"/>
    <dgm:cxn modelId="{B986FBA7-512C-498D-85BF-139F5E5DD422}" type="presParOf" srcId="{D7D1A5F8-39A3-4FF5-B2C2-BDBE53A34A1A}" destId="{ED3C5DAC-61E2-44D2-A214-7ECF4CCAD02D}" srcOrd="3" destOrd="0" presId="urn:microsoft.com/office/officeart/2005/8/layout/hProcess4"/>
    <dgm:cxn modelId="{72791A19-C3F2-4B0B-8601-B5FE5EC7A881}" type="presParOf" srcId="{D7D1A5F8-39A3-4FF5-B2C2-BDBE53A34A1A}" destId="{9C8C3660-D99A-46A1-9585-1A3586716C31}" srcOrd="4" destOrd="0" presId="urn:microsoft.com/office/officeart/2005/8/layout/hProcess4"/>
    <dgm:cxn modelId="{8D6E8B21-EB32-4156-8E59-4D3516D7A7C5}" type="presParOf" srcId="{979ED729-4EC0-4F1D-9B55-F48CF0438D4F}" destId="{3F1E93E8-3F3C-4DD8-8A10-AA480D6D6C54}" srcOrd="5" destOrd="0" presId="urn:microsoft.com/office/officeart/2005/8/layout/hProcess4"/>
    <dgm:cxn modelId="{FD817A7B-500C-4183-B805-217A43C4E420}" type="presParOf" srcId="{979ED729-4EC0-4F1D-9B55-F48CF0438D4F}" destId="{6E603495-CA9E-4797-A731-A666FC30856F}" srcOrd="6" destOrd="0" presId="urn:microsoft.com/office/officeart/2005/8/layout/hProcess4"/>
    <dgm:cxn modelId="{698E7918-6BC8-4168-8DCD-F4FEBBE22274}" type="presParOf" srcId="{6E603495-CA9E-4797-A731-A666FC30856F}" destId="{2573856B-2746-42FD-88A7-A06E0675AC27}" srcOrd="0" destOrd="0" presId="urn:microsoft.com/office/officeart/2005/8/layout/hProcess4"/>
    <dgm:cxn modelId="{DC949518-20A3-41FE-A952-F46F211919BC}" type="presParOf" srcId="{6E603495-CA9E-4797-A731-A666FC30856F}" destId="{ED4120C5-CB7F-4904-8D16-67699CF504C1}" srcOrd="1" destOrd="0" presId="urn:microsoft.com/office/officeart/2005/8/layout/hProcess4"/>
    <dgm:cxn modelId="{7DC77D80-5B52-4AED-890B-945A2B28FC61}" type="presParOf" srcId="{6E603495-CA9E-4797-A731-A666FC30856F}" destId="{9C469097-6126-4F6F-AE36-6A7C2EE09BD7}" srcOrd="2" destOrd="0" presId="urn:microsoft.com/office/officeart/2005/8/layout/hProcess4"/>
    <dgm:cxn modelId="{1E382054-ECD8-4C49-95DD-1FB66A84B636}" type="presParOf" srcId="{6E603495-CA9E-4797-A731-A666FC30856F}" destId="{51CEDACC-3C49-4C30-B086-1DE90683EC78}" srcOrd="3" destOrd="0" presId="urn:microsoft.com/office/officeart/2005/8/layout/hProcess4"/>
    <dgm:cxn modelId="{7FC54B1B-A5A9-4B0C-BB86-6A2442C7B339}" type="presParOf" srcId="{6E603495-CA9E-4797-A731-A666FC30856F}" destId="{C62F4FC6-F529-49F9-9288-E4616CDEA0CD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5A7D3A0-20F5-4926-8B34-A2405C026BA8}">
      <dsp:nvSpPr>
        <dsp:cNvPr id="0" name=""/>
        <dsp:cNvSpPr/>
      </dsp:nvSpPr>
      <dsp:spPr>
        <a:xfrm>
          <a:off x="0" y="0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Meets Requirements </a:t>
          </a:r>
          <a:r>
            <a:rPr lang="en-US" sz="1600" kern="1200" dirty="0"/>
            <a:t>- meets the purposes and requirements of IDEA B.</a:t>
          </a:r>
          <a:endParaRPr lang="en-US" sz="1600" b="1" kern="1200" dirty="0"/>
        </a:p>
      </dsp:txBody>
      <dsp:txXfrm>
        <a:off x="24463" y="24463"/>
        <a:ext cx="4282908" cy="786293"/>
      </dsp:txXfrm>
    </dsp:sp>
    <dsp:sp modelId="{AB5536A1-3005-4DAE-B787-798103961B8D}">
      <dsp:nvSpPr>
        <dsp:cNvPr id="0" name=""/>
        <dsp:cNvSpPr/>
      </dsp:nvSpPr>
      <dsp:spPr>
        <a:xfrm>
          <a:off x="440085" y="987077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903533"/>
            <a:satOff val="33333"/>
            <a:lumOff val="-4902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kern="1200" dirty="0"/>
            <a:t> </a:t>
          </a:r>
          <a:r>
            <a:rPr lang="en-US" sz="1600" b="1" kern="1200" dirty="0"/>
            <a:t>Needs Assistance </a:t>
          </a:r>
          <a:r>
            <a:rPr lang="en-US" sz="1600" kern="1200" dirty="0"/>
            <a:t>- in implementing the requirements of Part B</a:t>
          </a:r>
        </a:p>
      </dsp:txBody>
      <dsp:txXfrm>
        <a:off x="464548" y="1011540"/>
        <a:ext cx="4222847" cy="786293"/>
      </dsp:txXfrm>
    </dsp:sp>
    <dsp:sp modelId="{403D62EC-9082-4D4D-BD6D-B1393612C97E}">
      <dsp:nvSpPr>
        <dsp:cNvPr id="0" name=""/>
        <dsp:cNvSpPr/>
      </dsp:nvSpPr>
      <dsp:spPr>
        <a:xfrm>
          <a:off x="873602" y="1974155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1807066"/>
            <a:satOff val="66667"/>
            <a:lumOff val="-980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Needs Intervention </a:t>
          </a:r>
          <a:r>
            <a:rPr lang="en-US" sz="1600" kern="1200" dirty="0"/>
            <a:t>- in implementing the requirements of Part B</a:t>
          </a:r>
        </a:p>
      </dsp:txBody>
      <dsp:txXfrm>
        <a:off x="898065" y="1998618"/>
        <a:ext cx="4229416" cy="786293"/>
      </dsp:txXfrm>
    </dsp:sp>
    <dsp:sp modelId="{0D957A50-5B7D-4AB3-A444-BFA97F4C431C}">
      <dsp:nvSpPr>
        <dsp:cNvPr id="0" name=""/>
        <dsp:cNvSpPr/>
      </dsp:nvSpPr>
      <dsp:spPr>
        <a:xfrm>
          <a:off x="1313687" y="2961233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2710599"/>
            <a:satOff val="100000"/>
            <a:lumOff val="-1470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Needs Substantial Intervention </a:t>
          </a:r>
          <a:r>
            <a:rPr lang="en-US" sz="1600" kern="1200" dirty="0"/>
            <a:t>- in implementing the requirements of Part B</a:t>
          </a:r>
        </a:p>
      </dsp:txBody>
      <dsp:txXfrm>
        <a:off x="1338150" y="2985696"/>
        <a:ext cx="4222847" cy="786293"/>
      </dsp:txXfrm>
    </dsp:sp>
    <dsp:sp modelId="{1FFEFC0A-2D4F-4971-82AE-7B4AB8332325}">
      <dsp:nvSpPr>
        <dsp:cNvPr id="0" name=""/>
        <dsp:cNvSpPr/>
      </dsp:nvSpPr>
      <dsp:spPr>
        <a:xfrm>
          <a:off x="4711859" y="639702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4834010" y="639702"/>
        <a:ext cx="298590" cy="408526"/>
      </dsp:txXfrm>
    </dsp:sp>
    <dsp:sp modelId="{32E2D6A9-A478-438D-A831-783B8E27B233}">
      <dsp:nvSpPr>
        <dsp:cNvPr id="0" name=""/>
        <dsp:cNvSpPr/>
      </dsp:nvSpPr>
      <dsp:spPr>
        <a:xfrm>
          <a:off x="5151944" y="1626780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1014570"/>
            <a:satOff val="50000"/>
            <a:lumOff val="890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1014570"/>
              <a:satOff val="50000"/>
              <a:lumOff val="89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5274095" y="1626780"/>
        <a:ext cx="298590" cy="408526"/>
      </dsp:txXfrm>
    </dsp:sp>
    <dsp:sp modelId="{EEC71F1D-5104-47F8-9952-0F06B45DAE69}">
      <dsp:nvSpPr>
        <dsp:cNvPr id="0" name=""/>
        <dsp:cNvSpPr/>
      </dsp:nvSpPr>
      <dsp:spPr>
        <a:xfrm>
          <a:off x="5585461" y="2613857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2029141"/>
            <a:satOff val="100000"/>
            <a:lumOff val="1779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2029141"/>
              <a:satOff val="100000"/>
              <a:lumOff val="177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5707612" y="2613857"/>
        <a:ext cx="298590" cy="408526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A90F541-2A62-47D2-BB34-122BB94E7A8E}">
      <dsp:nvSpPr>
        <dsp:cNvPr id="0" name=""/>
        <dsp:cNvSpPr/>
      </dsp:nvSpPr>
      <dsp:spPr>
        <a:xfrm>
          <a:off x="4818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Indicators 4B, 9, 10, 11,12,13</a:t>
          </a:r>
        </a:p>
      </dsp:txBody>
      <dsp:txXfrm>
        <a:off x="43663" y="1904184"/>
        <a:ext cx="1968875" cy="1248586"/>
      </dsp:txXfrm>
    </dsp:sp>
    <dsp:sp modelId="{551F8A1E-6CFF-4DA0-ACB5-641BB5831E94}">
      <dsp:nvSpPr>
        <dsp:cNvPr id="0" name=""/>
        <dsp:cNvSpPr/>
      </dsp:nvSpPr>
      <dsp:spPr>
        <a:xfrm>
          <a:off x="1151805" y="2280704"/>
          <a:ext cx="2213842" cy="2213842"/>
        </a:xfrm>
        <a:prstGeom prst="leftCircularArrow">
          <a:avLst>
            <a:gd name="adj1" fmla="val 3035"/>
            <a:gd name="adj2" fmla="val 372440"/>
            <a:gd name="adj3" fmla="val 2083611"/>
            <a:gd name="adj4" fmla="val 8960149"/>
            <a:gd name="adj5" fmla="val 3541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2C78F12-6EF2-4EF9-979E-8076E925EE29}">
      <dsp:nvSpPr>
        <dsp:cNvPr id="0" name=""/>
        <dsp:cNvSpPr/>
      </dsp:nvSpPr>
      <dsp:spPr>
        <a:xfrm>
          <a:off x="459610" y="3191616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Compliance Indicators</a:t>
          </a:r>
        </a:p>
      </dsp:txBody>
      <dsp:txXfrm>
        <a:off x="480798" y="3212804"/>
        <a:ext cx="1776793" cy="681047"/>
      </dsp:txXfrm>
    </dsp:sp>
    <dsp:sp modelId="{3D9B4067-A263-45EF-B64E-4B0AA522E83E}">
      <dsp:nvSpPr>
        <dsp:cNvPr id="0" name=""/>
        <dsp:cNvSpPr/>
      </dsp:nvSpPr>
      <dsp:spPr>
        <a:xfrm>
          <a:off x="2587512" y="1831680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167129"/>
              <a:satOff val="4478"/>
              <a:lumOff val="1972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Valid</a:t>
          </a:r>
        </a:p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Reliable</a:t>
          </a:r>
        </a:p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Timely</a:t>
          </a:r>
        </a:p>
      </dsp:txBody>
      <dsp:txXfrm>
        <a:off x="2626357" y="2232237"/>
        <a:ext cx="1968875" cy="1248586"/>
      </dsp:txXfrm>
    </dsp:sp>
    <dsp:sp modelId="{E3C3FD9B-F8E4-4310-B214-5BD1FD1A152A}">
      <dsp:nvSpPr>
        <dsp:cNvPr id="0" name=""/>
        <dsp:cNvSpPr/>
      </dsp:nvSpPr>
      <dsp:spPr>
        <a:xfrm>
          <a:off x="3737558" y="838022"/>
          <a:ext cx="2487883" cy="2487883"/>
        </a:xfrm>
        <a:prstGeom prst="circularArrow">
          <a:avLst>
            <a:gd name="adj1" fmla="val 2701"/>
            <a:gd name="adj2" fmla="val 328831"/>
            <a:gd name="adj3" fmla="val 19495658"/>
            <a:gd name="adj4" fmla="val 12575511"/>
            <a:gd name="adj5" fmla="val 3151"/>
          </a:avLst>
        </a:prstGeom>
        <a:solidFill>
          <a:schemeClr val="accent5">
            <a:shade val="90000"/>
            <a:hueOff val="233943"/>
            <a:satOff val="-2143"/>
            <a:lumOff val="18503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9E06384-5740-42B7-BE77-739AAB411430}">
      <dsp:nvSpPr>
        <dsp:cNvPr id="0" name=""/>
        <dsp:cNvSpPr/>
      </dsp:nvSpPr>
      <dsp:spPr>
        <a:xfrm>
          <a:off x="3053520" y="1503627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7129"/>
            <a:satOff val="4478"/>
            <a:lumOff val="1972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Data Submissions</a:t>
          </a:r>
        </a:p>
      </dsp:txBody>
      <dsp:txXfrm>
        <a:off x="3074708" y="1524815"/>
        <a:ext cx="1776793" cy="681047"/>
      </dsp:txXfrm>
    </dsp:sp>
    <dsp:sp modelId="{C188E954-62C8-4D6C-A602-B5F6C3F8B099}">
      <dsp:nvSpPr>
        <dsp:cNvPr id="0" name=""/>
        <dsp:cNvSpPr/>
      </dsp:nvSpPr>
      <dsp:spPr>
        <a:xfrm>
          <a:off x="5192637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334258"/>
              <a:satOff val="8955"/>
              <a:lumOff val="3945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Previous findings of non-compliance are corrected</a:t>
          </a:r>
        </a:p>
      </dsp:txBody>
      <dsp:txXfrm>
        <a:off x="5231482" y="1904184"/>
        <a:ext cx="1968875" cy="1248586"/>
      </dsp:txXfrm>
    </dsp:sp>
    <dsp:sp modelId="{3F1E93E8-3F3C-4DD8-8A10-AA480D6D6C54}">
      <dsp:nvSpPr>
        <dsp:cNvPr id="0" name=""/>
        <dsp:cNvSpPr/>
      </dsp:nvSpPr>
      <dsp:spPr>
        <a:xfrm>
          <a:off x="6348522" y="2288082"/>
          <a:ext cx="2226378" cy="2226378"/>
        </a:xfrm>
        <a:prstGeom prst="leftCircularArrow">
          <a:avLst>
            <a:gd name="adj1" fmla="val 3018"/>
            <a:gd name="adj2" fmla="val 370195"/>
            <a:gd name="adj3" fmla="val 2145705"/>
            <a:gd name="adj4" fmla="val 9024489"/>
            <a:gd name="adj5" fmla="val 3521"/>
          </a:avLst>
        </a:prstGeom>
        <a:solidFill>
          <a:schemeClr val="accent5">
            <a:shade val="90000"/>
            <a:hueOff val="233943"/>
            <a:satOff val="-2143"/>
            <a:lumOff val="18503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D3C5DAC-61E2-44D2-A214-7ECF4CCAD02D}">
      <dsp:nvSpPr>
        <dsp:cNvPr id="0" name=""/>
        <dsp:cNvSpPr/>
      </dsp:nvSpPr>
      <dsp:spPr>
        <a:xfrm>
          <a:off x="5647430" y="3191616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334258"/>
            <a:satOff val="8955"/>
            <a:lumOff val="39453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Correction/Continuation of Non-Compliance</a:t>
          </a:r>
        </a:p>
      </dsp:txBody>
      <dsp:txXfrm>
        <a:off x="5668618" y="3212804"/>
        <a:ext cx="1776793" cy="681047"/>
      </dsp:txXfrm>
    </dsp:sp>
    <dsp:sp modelId="{ED4120C5-CB7F-4904-8D16-67699CF504C1}">
      <dsp:nvSpPr>
        <dsp:cNvPr id="0" name=""/>
        <dsp:cNvSpPr/>
      </dsp:nvSpPr>
      <dsp:spPr>
        <a:xfrm>
          <a:off x="7786547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167129"/>
              <a:satOff val="4478"/>
              <a:lumOff val="1972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Fiscal Audit Finding(s)</a:t>
          </a:r>
        </a:p>
      </dsp:txBody>
      <dsp:txXfrm>
        <a:off x="7825392" y="2265895"/>
        <a:ext cx="1968875" cy="1248586"/>
      </dsp:txXfrm>
    </dsp:sp>
    <dsp:sp modelId="{51CEDACC-3C49-4C30-B086-1DE90683EC78}">
      <dsp:nvSpPr>
        <dsp:cNvPr id="0" name=""/>
        <dsp:cNvSpPr/>
      </dsp:nvSpPr>
      <dsp:spPr>
        <a:xfrm>
          <a:off x="8241340" y="1503627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7129"/>
            <a:satOff val="4478"/>
            <a:lumOff val="1972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Other Relevant Items</a:t>
          </a:r>
        </a:p>
      </dsp:txBody>
      <dsp:txXfrm>
        <a:off x="8262528" y="1524815"/>
        <a:ext cx="1776793" cy="68104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795-94F4-40E0-99B5-E5D37187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B66-B0C5-41C9-872E-14C78D52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480-5100-48AC-89CD-50FA307A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46760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86852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F7A-3AB6-46AA-96CE-A9B9306F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E6F-2457-4E54-8596-96673BEA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08A4-06BC-4D28-B1F3-6160A2DB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2ACE-990C-48DC-9209-CFC5E2F6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26E-3556-4571-905B-61443F86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CDFF-41FC-485E-B90D-6A938AE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42600"/>
            <a:ext cx="100580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BF40-49FD-454C-87A9-9FD57A8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A0E1-43B8-4034-9F07-A12C92E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805-1692-4A3A-B88B-6A3D23F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01B-BA1A-4548-99C7-7FD2EA0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7D3E-FBFF-4699-8B58-2CCCB49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8669-4F1D-4529-98D2-1E1623C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34E-0D9F-4B07-8825-030D0CB7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46760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86852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859-7571-4264-B8AC-5E37F879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3CB-7AFB-461C-8794-2485923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F1B-5D11-4449-8185-BF43A92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30F-564B-4F62-A480-9E6DEDE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642600"/>
            <a:ext cx="100580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F19-5FE3-4483-9D23-6C73719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6AE-07C4-4F90-986D-7DAF51E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B8F-2F7D-4999-9D75-CBFB455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BF5-2BA8-4627-8985-35B2B412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0e0"/>
            </a:gs>
            <a:gs pos="100000">
              <a:srgbClr val="c9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234720" y="237600"/>
            <a:ext cx="11722320" cy="6382080"/>
          </a:xfrm>
          <a:prstGeom prst="rect">
            <a:avLst/>
          </a:prstGeom>
          <a:solidFill>
            <a:schemeClr val="bg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12191760" cy="1371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3045794" ty="30765" sx="84998" sy="84998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307880" y="1267560"/>
            <a:ext cx="9576000" cy="4307760"/>
          </a:xfrm>
          <a:prstGeom prst="rect">
            <a:avLst/>
          </a:prstGeom>
          <a:solidFill>
            <a:schemeClr val="bg1"/>
          </a:solidFill>
          <a:ln w="6350">
            <a:noFill/>
          </a:ln>
          <a:effectLst>
            <a:outerShdw algn="ctr" blurRad="50760" rotWithShape="0">
              <a:srgbClr val="000000">
                <a:alpha val="6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1447920" y="1411560"/>
            <a:ext cx="9295920" cy="4034520"/>
          </a:xfrm>
          <a:prstGeom prst="rect">
            <a:avLst/>
          </a:prstGeom>
          <a:noFill/>
          <a:ln cap="sq" w="6350">
            <a:solidFill>
              <a:srgbClr val="000000">
                <a:lumMod val="75000"/>
                <a:lumOff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135760" y="1267560"/>
            <a:ext cx="1919880" cy="7311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3"/>
          <p:cNvGrpSpPr/>
          <p:nvPr/>
        </p:nvGrpSpPr>
        <p:grpSpPr>
          <a:xfrm>
            <a:off x="5249880" y="1267560"/>
            <a:ext cx="1691640" cy="645120"/>
            <a:chOff x="5249880" y="1267560"/>
            <a:chExt cx="1691640" cy="645120"/>
          </a:xfrm>
        </p:grpSpPr>
        <p:cxnSp>
          <p:nvCxnSpPr>
            <p:cNvPr id="7" name="Straight Connector 16"/>
            <p:cNvCxnSpPr/>
            <p:nvPr/>
          </p:nvCxnSpPr>
          <p:spPr>
            <a:xfrm>
              <a:off x="5249880" y="1267560"/>
              <a:ext cx="360" cy="64044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  <p:cxnSp>
          <p:nvCxnSpPr>
            <p:cNvPr id="8" name="Straight Connector 17"/>
            <p:cNvCxnSpPr/>
            <p:nvPr/>
          </p:nvCxnSpPr>
          <p:spPr>
            <a:xfrm>
              <a:off x="6941520" y="1267560"/>
              <a:ext cx="360" cy="64044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  <p:cxnSp>
          <p:nvCxnSpPr>
            <p:cNvPr id="9" name="Straight Connector 18"/>
            <p:cNvCxnSpPr/>
            <p:nvPr/>
          </p:nvCxnSpPr>
          <p:spPr>
            <a:xfrm>
              <a:off x="5249880" y="1912680"/>
              <a:ext cx="1692000" cy="36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61680" y="2091240"/>
            <a:ext cx="9068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</a:pPr>
            <a:r>
              <a:rPr b="0" lang="en-US" sz="7200" spc="-100" strike="noStrike" cap="all">
                <a:solidFill>
                  <a:srgbClr val="262626"/>
                </a:solidFill>
                <a:latin typeface="Century Gothic"/>
              </a:rPr>
              <a:t>Click to edit Master title style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5318640" y="1341360"/>
            <a:ext cx="1554120" cy="52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1454040" y="5211000"/>
            <a:ext cx="590508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70707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70707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06880" y="5212080"/>
            <a:ext cx="211140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70707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8CCFA7-33B7-4E6C-8268-4A82C66A00E7}" type="slidenum">
              <a:rPr b="0" lang="en-US" sz="1000" spc="-1" strike="noStrike">
                <a:solidFill>
                  <a:srgbClr val="70707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34720" y="237600"/>
            <a:ext cx="11722320" cy="6382080"/>
          </a:xfrm>
          <a:prstGeom prst="rect">
            <a:avLst/>
          </a:prstGeom>
          <a:solidFill>
            <a:schemeClr val="bg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12191760" cy="1371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152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584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128016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74320" y="6307560"/>
            <a:ext cx="274284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469880" y="6307560"/>
            <a:ext cx="146268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00925D-7992-4FEA-A238-263222BA579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harlene.Marcotte@ped.nm.gov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f86"/>
            </a:gs>
            <a:gs pos="100000">
              <a:srgbClr val="3248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43320" y="643320"/>
            <a:ext cx="10904760" cy="5570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 useBgFill="1">
        <p:nvSpPr>
          <p:cNvPr id="96" name="Rectangle 11"/>
          <p:cNvSpPr/>
          <p:nvPr/>
        </p:nvSpPr>
        <p:spPr>
          <a:xfrm>
            <a:off x="806760" y="809280"/>
            <a:ext cx="10579320" cy="5239080"/>
          </a:xfrm>
          <a:prstGeom prst="rect">
            <a:avLst/>
          </a:prstGeom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920" y="1260360"/>
            <a:ext cx="6704280" cy="43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83000"/>
              </a:lnSpc>
              <a:buNone/>
            </a:pPr>
            <a:r>
              <a:rPr b="0" lang="en-US" sz="5400" spc="-100" strike="noStrike" cap="all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13200" y="1260360"/>
            <a:ext cx="2658240" cy="43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0" lang="en-US" sz="1600" spc="77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99" name="Straight Connector 13"/>
          <p:cNvCxnSpPr/>
          <p:nvPr/>
        </p:nvCxnSpPr>
        <p:spPr>
          <a:xfrm>
            <a:off x="8129520" y="2057400"/>
            <a:ext cx="360" cy="2743560"/>
          </a:xfrm>
          <a:prstGeom prst="straightConnector1">
            <a:avLst/>
          </a:prstGeom>
          <a:ln w="15875">
            <a:solidFill>
              <a:srgbClr val="ffffff">
                <a:lumMod val="75000"/>
                <a:lumOff val="25000"/>
              </a:srgbClr>
            </a:solidFill>
            <a:round/>
          </a:ln>
        </p:spPr>
      </p:cxnSp>
      <p:pic>
        <p:nvPicPr>
          <p:cNvPr id="100" name="Picture 26" descr=""/>
          <p:cNvPicPr/>
          <p:nvPr/>
        </p:nvPicPr>
        <p:blipFill>
          <a:blip r:embed="rId1"/>
          <a:srcRect l="0" t="0" r="2823" b="0"/>
          <a:stretch/>
        </p:blipFill>
        <p:spPr>
          <a:xfrm>
            <a:off x="8696520" y="739800"/>
            <a:ext cx="2073600" cy="268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U.S. Department of Education seal"/>
          <p:cNvPicPr/>
          <p:nvPr/>
        </p:nvPicPr>
        <p:blipFill>
          <a:blip r:embed="rId2"/>
          <a:stretch/>
        </p:blipFill>
        <p:spPr>
          <a:xfrm>
            <a:off x="8773200" y="3464280"/>
            <a:ext cx="1996920" cy="2000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7"/>
          <p:cNvSpPr/>
          <p:nvPr/>
        </p:nvSpPr>
        <p:spPr>
          <a:xfrm>
            <a:off x="1318680" y="1758960"/>
            <a:ext cx="6669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64"/>
              </a:lnSpc>
            </a:pPr>
            <a:r>
              <a:rPr b="0" lang="en-US" sz="4000" spc="-1" strike="noStrike">
                <a:solidFill>
                  <a:schemeClr val="accent5">
                    <a:lumMod val="75000"/>
                  </a:schemeClr>
                </a:solidFill>
                <a:latin typeface="Dreaming Outloud Script Pro"/>
              </a:rPr>
              <a:t>Special Education Divi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283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202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Stakeho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Engagement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i="1" lang="en-US" sz="2400" spc="-1" strike="noStrike">
                <a:solidFill>
                  <a:srgbClr val="d6dce5"/>
                </a:solidFill>
                <a:latin typeface="Century Gothic"/>
              </a:rPr>
              <a:t>September 6, 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3716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Thank you for your input!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7120" indent="-1771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arlene Marcotte, Data Supervisor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Charlene.Marcotte@ped.nm.gov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505) 309-16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10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7194-7DF4-469C-B22B-1BC16EE08D70}" type="slidenum">
              <a:t>10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1480" y="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Annual Determinations (ADs)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88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State is required to assign annual determinations (AD) to all Local Education Agencies (LEAs) each year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viduals with Disabilities Education Act (IDEA) at 34 CFR § 300.600(a)(2) an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ubsection F of 6.31.2.9 NMAC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EAs are –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chool distric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ate charter school an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ate Supported Schools (SSS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2303-530A-401B-BF7B-C6A5DAD3E231}" type="slidenum">
              <a:t>2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1067796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Determination Categorie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9280" y="1431000"/>
            <a:ext cx="10058040" cy="40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1f1f1f"/>
                </a:solidFill>
                <a:latin typeface="Open Sans"/>
              </a:rPr>
              <a:t>The Special Education Division is required to make annual determinations about the performance of all local education agencies (LEAs) in the stat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1f1f1f"/>
                </a:solidFill>
                <a:latin typeface="Open Sans"/>
              </a:rPr>
              <a:t>Four categories are used for assigning categor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7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chemeClr val="accent1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34433703"/>
              </p:ext>
            </p:extLst>
          </p:nvPr>
        </p:nvGraphicFramePr>
        <p:xfrm>
          <a:off x="3604320" y="2511360"/>
          <a:ext cx="6568200" cy="3796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606-7117-4967-A0EA-8E931312A03D}" type="slidenum">
              <a:t>3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200" y="255240"/>
            <a:ext cx="103813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Elements of Annual Determina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440" y="1767960"/>
            <a:ext cx="9600840" cy="45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 required areas of an annual determination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8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chemeClr val="accent1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639296929"/>
              </p:ext>
            </p:extLst>
          </p:nvPr>
        </p:nvGraphicFramePr>
        <p:xfrm>
          <a:off x="1137240" y="1679400"/>
          <a:ext cx="1006488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0882-ED3E-4E61-A18A-A5648BC020AB}" type="slidenum">
              <a:t>4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8400" y="-118800"/>
            <a:ext cx="5582880" cy="16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Determination Criteria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0480" y="1727280"/>
            <a:ext cx="397440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s table is currently used to assign a determination based 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EA performance on the Annual Determination element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372280" y="85680"/>
            <a:ext cx="6560280" cy="668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6BC-9276-4D3C-9620-D0DC2D857F6B}" type="slidenum">
              <a:t>5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7000" y="-136800"/>
            <a:ext cx="5306400" cy="171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OSEP QA 23-01 Documen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-1800" y="0"/>
            <a:ext cx="634392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243000" y="253440"/>
            <a:ext cx="5851440" cy="6384600"/>
          </a:xfrm>
          <a:prstGeom prst="rect">
            <a:avLst/>
          </a:prstGeom>
          <a:solidFill>
            <a:schemeClr val="bg1"/>
          </a:solidFill>
          <a:ln w="6350">
            <a:noFill/>
          </a:ln>
          <a:effectLst>
            <a:outerShdw algn="ctr" blurRad="50760" rotWithShape="0">
              <a:srgbClr val="000000">
                <a:alpha val="6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87280" y="1647360"/>
            <a:ext cx="4601880" cy="359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Released July 23, 202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Provides additional and clarifying information on LEA annual determination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9"/>
          </p:nvPr>
        </p:nvSpPr>
        <p:spPr>
          <a:xfrm>
            <a:off x="6423480" y="6266160"/>
            <a:ext cx="47545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lstStyle>
            <a:lvl1pPr indent="0">
              <a:lnSpc>
                <a:spcPct val="100000"/>
              </a:lnSpc>
              <a:spcAft>
                <a:spcPts val="601"/>
              </a:spcAft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10"/>
          </p:nvPr>
        </p:nvSpPr>
        <p:spPr>
          <a:xfrm>
            <a:off x="11345400" y="6266160"/>
            <a:ext cx="54828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lstStyle>
            <a:lvl1pPr indent="0" algn="r">
              <a:lnSpc>
                <a:spcPct val="100000"/>
              </a:lnSpc>
              <a:spcAft>
                <a:spcPts val="601"/>
              </a:spcAft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601"/>
              </a:spcAft>
              <a:buNone/>
            </a:pPr>
            <a:fld id="{1B73E690-15C1-4CD6-98F1-CF8EB123671E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829440" y="392760"/>
            <a:ext cx="4678200" cy="614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8400" y="558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hanges to the LEA Annual Determination Matrix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4680" y="1646640"/>
            <a:ext cx="627300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ate is proposing changes to the LEA Annual Determination Matrix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establish clear criteria for each categor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dd target indicators to the matrix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move duplicative criteri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657560" y="99720"/>
            <a:ext cx="4175640" cy="457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7688160" y="4555080"/>
            <a:ext cx="41454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9729-885A-46B9-BC3C-FF61638A7B32}" type="slidenum">
              <a:t>7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1115352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Role of the Stakeholder in the SPP/APR Proces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482840"/>
            <a:ext cx="10058040" cy="47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s part of the SPP/APR, Stakeholders must be included in the following activit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Target setting for SPP/APR indicators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Analyzing SPP/APR data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highlight>
                  <a:srgbClr val="ffff00"/>
                </a:highlight>
                <a:latin typeface="Century Gothic"/>
                <a:ea typeface="Calibri"/>
              </a:rPr>
              <a:t>Providing strategies for improving outcomes for children and youth with disabilities,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highlight>
                  <a:srgbClr val="ffff00"/>
                </a:highlight>
                <a:latin typeface="Century Gothic"/>
                <a:ea typeface="Calibri"/>
              </a:rPr>
              <a:t>Evaluating the progress the State is mak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Objective for today is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Stakeholders to share feedback and ideas for improving outcomes for students with disabilit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The state will record feedback and share with internal stakeholders that have a role in decision making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3EC-26D3-41FE-A9E4-1FC07EB6EA1C}" type="slidenum">
              <a:t>8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4920" y="-10692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Term Review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857240"/>
            <a:ext cx="96008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OSEP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fice of Special Education Programs.  Oversees the implementation of the Individuals with Disabilities Education Act, Part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IDEA Part B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dividuals with Disabilities Education Act, Part B which outlines the requirements for serving students with disabilities for ages 3-2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SPP/APR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ate Performance Plan where the state establishes baselines and targets.  Annual Performance Report where the state reports progress on baselines and targe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cator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ach requirement reported in the SPP/APR is called and indicator.  Each indicator is assigned a number, 1 through 16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Baseline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ata starting po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Target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e the State has set to meet for each target indicato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Met Targe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target the State has established was met or exceeded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Did Not Meet Targe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target the state has established was not me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Lag Yea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 Data from year prior than reporting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F9E-5A98-4249-961C-93B1F9FF0A7A}" type="slidenum">
              <a:t>9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Savon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von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2611</TotalTime>
  <Application>LibreOffice/7.4.7.2$Linux_X86_64 LibreOffice_project/40$Build-2</Application>
  <AppVersion>15.0000</AppVersion>
  <Words>630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2T19:18:44Z</dcterms:created>
  <dc:creator>Nancy Martira</dc:creator>
  <dc:description/>
  <dc:language>en-US</dc:language>
  <cp:lastModifiedBy>Charlene Marcotte</cp:lastModifiedBy>
  <dcterms:modified xsi:type="dcterms:W3CDTF">2023-09-22T18:35:31Z</dcterms:modified>
  <cp:revision>417</cp:revision>
  <dc:subject/>
  <dc:title>Title with Pictur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AA3F7D94069FF64A86F7DFF56D60E3B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PresentationFormat">
    <vt:lpwstr>Widescreen</vt:lpwstr>
  </property>
  <property fmtid="{D5CDD505-2E9C-101B-9397-08002B2CF9AE}" pid="8" name="ScenarioTags">
    <vt:lpwstr/>
  </property>
  <property fmtid="{D5CDD505-2E9C-101B-9397-08002B2CF9AE}" pid="9" name="Slides">
    <vt:r8>10</vt:r8>
  </property>
</Properties>
</file>