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OOXDiagramDataRels1_0.png" ContentType="image/png"/>
  <Override PartName="/ppt/media/OOXDiagramDataRels1_1.svg" ContentType="image/svg"/>
  <Override PartName="/ppt/media/OOXDiagramDataRels1_4.png" ContentType="image/png"/>
  <Override PartName="/ppt/media/OOXDiagramDataRels1_2.png" ContentType="image/png"/>
  <Override PartName="/ppt/media/OOXDiagramDataRels1_3.svg" ContentType="image/svg"/>
  <Override PartName="/ppt/media/OOXDiagramDataRels1_5.svg" ContentType="image/svg"/>
  <Override PartName="/ppt/media/OOXDiagramDrawingRels1_0.png" ContentType="image/png"/>
  <Override PartName="/ppt/media/OOXDiagramDrawingRels1_1.svg" ContentType="image/svg"/>
  <Override PartName="/ppt/media/OOXDiagramDrawingRels1_4.png" ContentType="image/png"/>
  <Override PartName="/ppt/media/OOXDiagramDrawingRels1_2.png" ContentType="image/png"/>
  <Override PartName="/ppt/media/OOXDiagramDrawingRels1_3.svg" ContentType="image/svg"/>
  <Override PartName="/ppt/media/OOXDiagramDrawingRels1_5.svg" ContentType="image/sv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svg"/><Relationship Id="rId3" Type="http://schemas.openxmlformats.org/officeDocument/2006/relationships/image" Target="../media/OOXDiagramDataRels1_2.png"/><Relationship Id="rId4" Type="http://schemas.openxmlformats.org/officeDocument/2006/relationships/image" Target="../media/OOXDiagramDataRels1_3.svg"/><Relationship Id="rId5" Type="http://schemas.openxmlformats.org/officeDocument/2006/relationships/image" Target="../media/OOXDiagramDataRels1_4.png"/><Relationship Id="rId6" Type="http://schemas.openxmlformats.org/officeDocument/2006/relationships/image" Target="../media/OOXDiagramDataRels1_5.sv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Relationship Id="rId2" Type="http://schemas.openxmlformats.org/officeDocument/2006/relationships/image" Target="../media/OOXDiagramDrawingRels1_1.svg"/><Relationship Id="rId3" Type="http://schemas.openxmlformats.org/officeDocument/2006/relationships/image" Target="../media/OOXDiagramDrawingRels1_2.png"/><Relationship Id="rId4" Type="http://schemas.openxmlformats.org/officeDocument/2006/relationships/image" Target="../media/OOXDiagramDrawingRels1_3.svg"/><Relationship Id="rId5" Type="http://schemas.openxmlformats.org/officeDocument/2006/relationships/image" Target="../media/OOXDiagramDrawingRels1_4.png"/><Relationship Id="rId6" Type="http://schemas.openxmlformats.org/officeDocument/2006/relationships/image" Target="../media/OOXDiagramDrawingRels1_5.sv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19FB627-AF19-4C14-9442-52FFFB645011}" type="doc">
      <dgm:prSet loTypeId="urn:microsoft.com/office/officeart/2005/8/layout/vList3" loCatId="list" qsTypeId="urn:microsoft.com/office/officeart/2005/8/quickstyle/simple5" qsCatId="simple" csTypeId="urn:microsoft.com/office/officeart/2005/8/colors/accent1_2" csCatId="accent1" phldr="1"/>
      <dgm:spPr/>
      <dgm:t>
        <a:bodyPr/>
        <a:lstStyle/>
        <a:p>
          <a:endParaRPr lang="en-US"/>
        </a:p>
      </dgm:t>
    </dgm:pt>
    <dgm:pt modelId="{48B88F06-0150-4877-9ECE-16296DF73546}">
      <dgm:prSet phldrT="[Text]"/>
      <dgm:spPr/>
      <dgm:t>
        <a:bodyPr/>
        <a:lstStyle/>
        <a:p>
          <a:r>
            <a:rPr lang="en-US" dirty="0"/>
            <a:t>1</a:t>
          </a:r>
        </a:p>
      </dgm:t>
    </dgm:pt>
    <dgm:pt modelId="{378ECCC2-61CE-4EB8-BC0E-DDF7DCD51EC0}" type="parTrans" cxnId="{5EBAEAFA-DEC9-472E-B6C9-80633D181D59}">
      <dgm:prSet/>
      <dgm:spPr/>
      <dgm:t>
        <a:bodyPr/>
        <a:lstStyle/>
        <a:p>
          <a:endParaRPr lang="en-US"/>
        </a:p>
      </dgm:t>
    </dgm:pt>
    <dgm:pt modelId="{EDF5E523-B41E-430A-8B1A-81DD179A934A}" type="sibTrans" cxnId="{5EBAEAFA-DEC9-472E-B6C9-80633D181D59}">
      <dgm:prSet/>
      <dgm:spPr/>
      <dgm:t>
        <a:bodyPr/>
        <a:lstStyle/>
        <a:p>
          <a:endParaRPr lang="en-US"/>
        </a:p>
      </dgm:t>
    </dgm:pt>
    <dgm:pt modelId="{EDF31ABC-D7AE-4399-85B7-C880CBC3C531}">
      <dgm:prSet phldrT="[Text]"/>
      <dgm:spPr/>
      <dgm:t>
        <a:bodyPr/>
        <a:lstStyle/>
        <a:p>
          <a:r>
            <a:rPr lang="en-US" dirty="0"/>
            <a:t>Determine Eligible State Agencies </a:t>
          </a:r>
        </a:p>
      </dgm:t>
    </dgm:pt>
    <dgm:pt modelId="{66835850-9B54-4C57-9D7D-5D0541092BD8}" type="parTrans" cxnId="{4BD94938-5D64-44F0-8797-3EAEC33C15AC}">
      <dgm:prSet/>
      <dgm:spPr/>
      <dgm:t>
        <a:bodyPr/>
        <a:lstStyle/>
        <a:p>
          <a:endParaRPr lang="en-US"/>
        </a:p>
      </dgm:t>
    </dgm:pt>
    <dgm:pt modelId="{91A012ED-1711-410F-9570-6E5DA7913316}" type="sibTrans" cxnId="{4BD94938-5D64-44F0-8797-3EAEC33C15AC}">
      <dgm:prSet/>
      <dgm:spPr/>
      <dgm:t>
        <a:bodyPr/>
        <a:lstStyle/>
        <a:p>
          <a:endParaRPr lang="en-US"/>
        </a:p>
      </dgm:t>
    </dgm:pt>
    <dgm:pt modelId="{37BD9247-E0B7-48C9-9814-11B9A67E5F76}">
      <dgm:prSet phldrT="[Text]"/>
      <dgm:spPr/>
      <dgm:t>
        <a:bodyPr/>
        <a:lstStyle/>
        <a:p>
          <a:r>
            <a:rPr lang="en-US" dirty="0"/>
            <a:t>2</a:t>
          </a:r>
        </a:p>
      </dgm:t>
    </dgm:pt>
    <dgm:pt modelId="{11BE42E0-9DDF-4C87-9E30-1DE36256884D}" type="parTrans" cxnId="{A2F1E737-8E27-4067-9434-B5BF8059A9B0}">
      <dgm:prSet/>
      <dgm:spPr/>
      <dgm:t>
        <a:bodyPr/>
        <a:lstStyle/>
        <a:p>
          <a:endParaRPr lang="en-US"/>
        </a:p>
      </dgm:t>
    </dgm:pt>
    <dgm:pt modelId="{AAC255D1-F97C-444F-8A97-77647FD42899}" type="sibTrans" cxnId="{A2F1E737-8E27-4067-9434-B5BF8059A9B0}">
      <dgm:prSet/>
      <dgm:spPr/>
      <dgm:t>
        <a:bodyPr/>
        <a:lstStyle/>
        <a:p>
          <a:endParaRPr lang="en-US"/>
        </a:p>
      </dgm:t>
    </dgm:pt>
    <dgm:pt modelId="{A343DB4B-792D-4B95-AF82-CFF00AD9222C}">
      <dgm:prSet phldrT="[Text]"/>
      <dgm:spPr/>
      <dgm:t>
        <a:bodyPr/>
        <a:lstStyle/>
        <a:p>
          <a:r>
            <a:rPr lang="en-US" dirty="0"/>
            <a:t>Determine Eligible Facilities</a:t>
          </a:r>
        </a:p>
      </dgm:t>
    </dgm:pt>
    <dgm:pt modelId="{F1EE6D3E-2EC0-4FE5-BFFC-703D45F53F0A}" type="parTrans" cxnId="{D44D154F-CBCF-4D75-A210-26D147776056}">
      <dgm:prSet/>
      <dgm:spPr/>
      <dgm:t>
        <a:bodyPr/>
        <a:lstStyle/>
        <a:p>
          <a:endParaRPr lang="en-US"/>
        </a:p>
      </dgm:t>
    </dgm:pt>
    <dgm:pt modelId="{DF7B5C9B-CCC3-4536-BAB2-8B9A6D2F993A}" type="sibTrans" cxnId="{D44D154F-CBCF-4D75-A210-26D147776056}">
      <dgm:prSet/>
      <dgm:spPr/>
      <dgm:t>
        <a:bodyPr/>
        <a:lstStyle/>
        <a:p>
          <a:endParaRPr lang="en-US"/>
        </a:p>
      </dgm:t>
    </dgm:pt>
    <dgm:pt modelId="{269AFBB9-29FB-4A00-BBF8-DAAA0A7FD38F}">
      <dgm:prSet phldrT="[Text]"/>
      <dgm:spPr/>
      <dgm:t>
        <a:bodyPr/>
        <a:lstStyle/>
        <a:p>
          <a:r>
            <a:rPr lang="en-US" dirty="0"/>
            <a:t>3</a:t>
          </a:r>
        </a:p>
      </dgm:t>
    </dgm:pt>
    <dgm:pt modelId="{E2764B0F-3B5C-4AA6-A823-37984771053E}" type="parTrans" cxnId="{80DADB75-F363-4863-9AD2-14B06F0C072E}">
      <dgm:prSet/>
      <dgm:spPr/>
      <dgm:t>
        <a:bodyPr/>
        <a:lstStyle/>
        <a:p>
          <a:endParaRPr lang="en-US"/>
        </a:p>
      </dgm:t>
    </dgm:pt>
    <dgm:pt modelId="{ED64EF22-C090-4F2C-A4E7-C7B4C5C36CF7}" type="sibTrans" cxnId="{80DADB75-F363-4863-9AD2-14B06F0C072E}">
      <dgm:prSet/>
      <dgm:spPr/>
      <dgm:t>
        <a:bodyPr/>
        <a:lstStyle/>
        <a:p>
          <a:endParaRPr lang="en-US"/>
        </a:p>
      </dgm:t>
    </dgm:pt>
    <dgm:pt modelId="{DDF67E15-34D5-48EF-B2B4-92A4017B5EDC}">
      <dgm:prSet phldrT="[Text]"/>
      <dgm:spPr/>
      <dgm:t>
        <a:bodyPr/>
        <a:lstStyle/>
        <a:p>
          <a:r>
            <a:rPr lang="en-US" dirty="0"/>
            <a:t>Determine Eligible Students </a:t>
          </a:r>
        </a:p>
      </dgm:t>
    </dgm:pt>
    <dgm:pt modelId="{E7467A58-7C75-4B15-B1A2-8EB3C3D930D4}" type="parTrans" cxnId="{F6E55548-75C5-4D6E-B387-E1FE35A0DA4B}">
      <dgm:prSet/>
      <dgm:spPr/>
      <dgm:t>
        <a:bodyPr/>
        <a:lstStyle/>
        <a:p>
          <a:endParaRPr lang="en-US"/>
        </a:p>
      </dgm:t>
    </dgm:pt>
    <dgm:pt modelId="{3F8A7EE0-73C7-4214-BD67-DCCD2A2A526B}" type="sibTrans" cxnId="{F6E55548-75C5-4D6E-B387-E1FE35A0DA4B}">
      <dgm:prSet/>
      <dgm:spPr/>
      <dgm:t>
        <a:bodyPr/>
        <a:lstStyle/>
        <a:p>
          <a:endParaRPr lang="en-US"/>
        </a:p>
      </dgm:t>
    </dgm:pt>
    <dgm:pt modelId="{F0798F04-E6A5-4A04-B2D6-4A8F17BD80CC}" type="pres">
      <dgm:prSet presAssocID="{619FB627-AF19-4C14-9442-52FFFB645011}" presName="linearFlow" presStyleCnt="0">
        <dgm:presLayoutVars>
          <dgm:dir/>
          <dgm:resizeHandles val="exact"/>
        </dgm:presLayoutVars>
      </dgm:prSet>
      <dgm:spPr/>
    </dgm:pt>
    <dgm:pt modelId="{B34D0607-0C48-42E7-9C65-BD015C676EE7}" type="pres">
      <dgm:prSet presAssocID="{48B88F06-0150-4877-9ECE-16296DF73546}" presName="composite" presStyleCnt="0"/>
      <dgm:spPr/>
    </dgm:pt>
    <dgm:pt modelId="{76190947-C66A-4B61-A064-7523565E5AE6}" type="pres">
      <dgm:prSet presAssocID="{48B88F06-0150-4877-9ECE-16296DF73546}" presName="imgShp" presStyleLbl="fgImgPlac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dgm:spPr>
      <dgm:extLst>
        <a:ext uri="{E40237B7-FDA0-4F09-8148-C483321AD2D9}">
          <dgm14:cNvPr xmlns:dgm14="http://schemas.microsoft.com/office/drawing/2010/diagram" id="0" name="" descr="Court outline"/>
        </a:ext>
      </dgm:extLst>
    </dgm:pt>
    <dgm:pt modelId="{3009ECC5-D85F-4E5A-A558-5EC15CB79171}" type="pres">
      <dgm:prSet presAssocID="{48B88F06-0150-4877-9ECE-16296DF73546}" presName="txShp" presStyleLbl="node1" presStyleIdx="0" presStyleCnt="3">
        <dgm:presLayoutVars>
          <dgm:bulletEnabled val="1"/>
        </dgm:presLayoutVars>
      </dgm:prSet>
      <dgm:spPr/>
    </dgm:pt>
    <dgm:pt modelId="{B2515FDD-8925-4156-B633-6EFA72E661F4}" type="pres">
      <dgm:prSet presAssocID="{EDF5E523-B41E-430A-8B1A-81DD179A934A}" presName="spacing" presStyleCnt="0"/>
      <dgm:spPr/>
    </dgm:pt>
    <dgm:pt modelId="{1223A65E-A7EA-4A34-AA52-36DFD0C4B04E}" type="pres">
      <dgm:prSet presAssocID="{37BD9247-E0B7-48C9-9814-11B9A67E5F76}" presName="composite" presStyleCnt="0"/>
      <dgm:spPr/>
    </dgm:pt>
    <dgm:pt modelId="{84FE0721-A470-4D78-B830-D18F540E5B56}" type="pres">
      <dgm:prSet presAssocID="{37BD9247-E0B7-48C9-9814-11B9A67E5F76}" presName="imgShp" presStyleLbl="fgImgPlac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dgm:spPr>
      <dgm:extLst>
        <a:ext uri="{E40237B7-FDA0-4F09-8148-C483321AD2D9}">
          <dgm14:cNvPr xmlns:dgm14="http://schemas.microsoft.com/office/drawing/2010/diagram" id="0" name="" descr="City outline"/>
        </a:ext>
      </dgm:extLst>
    </dgm:pt>
    <dgm:pt modelId="{CDCFEB67-FD02-4AFD-A008-63F97B7A92C6}" type="pres">
      <dgm:prSet presAssocID="{37BD9247-E0B7-48C9-9814-11B9A67E5F76}" presName="txShp" presStyleLbl="node1" presStyleIdx="1" presStyleCnt="3">
        <dgm:presLayoutVars>
          <dgm:bulletEnabled val="1"/>
        </dgm:presLayoutVars>
      </dgm:prSet>
      <dgm:spPr/>
    </dgm:pt>
    <dgm:pt modelId="{0E4E0C88-6CE3-4E2A-960D-9387D07CD06B}" type="pres">
      <dgm:prSet presAssocID="{AAC255D1-F97C-444F-8A97-77647FD42899}" presName="spacing" presStyleCnt="0"/>
      <dgm:spPr/>
    </dgm:pt>
    <dgm:pt modelId="{C64A41C5-363C-465D-973C-F0683905F2C7}" type="pres">
      <dgm:prSet presAssocID="{269AFBB9-29FB-4A00-BBF8-DAAA0A7FD38F}" presName="composite" presStyleCnt="0"/>
      <dgm:spPr/>
    </dgm:pt>
    <dgm:pt modelId="{23EA077C-6617-4D34-B12A-6DDB2547F26F}" type="pres">
      <dgm:prSet presAssocID="{269AFBB9-29FB-4A00-BBF8-DAAA0A7FD38F}" presName="imgShp" presStyleLbl="fgImgPlac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dgm:spPr>
      <dgm:extLst>
        <a:ext uri="{E40237B7-FDA0-4F09-8148-C483321AD2D9}">
          <dgm14:cNvPr xmlns:dgm14="http://schemas.microsoft.com/office/drawing/2010/diagram" id="0" name="" descr="Classroom with solid fill"/>
        </a:ext>
      </dgm:extLst>
    </dgm:pt>
    <dgm:pt modelId="{CAE40D7B-CB4B-4DFB-8DA9-E39C07226AF6}" type="pres">
      <dgm:prSet presAssocID="{269AFBB9-29FB-4A00-BBF8-DAAA0A7FD38F}" presName="txShp" presStyleLbl="node1" presStyleIdx="2" presStyleCnt="3">
        <dgm:presLayoutVars>
          <dgm:bulletEnabled val="1"/>
        </dgm:presLayoutVars>
      </dgm:prSet>
      <dgm:spPr/>
    </dgm:pt>
  </dgm:ptLst>
  <dgm:cxnLst>
    <dgm:cxn modelId="{11A92C24-841F-44C3-8142-91BD09981ABA}" type="presOf" srcId="{48B88F06-0150-4877-9ECE-16296DF73546}" destId="{3009ECC5-D85F-4E5A-A558-5EC15CB79171}" srcOrd="0" destOrd="0" presId="urn:microsoft.com/office/officeart/2005/8/layout/vList3"/>
    <dgm:cxn modelId="{A2F1E737-8E27-4067-9434-B5BF8059A9B0}" srcId="{619FB627-AF19-4C14-9442-52FFFB645011}" destId="{37BD9247-E0B7-48C9-9814-11B9A67E5F76}" srcOrd="1" destOrd="0" parTransId="{11BE42E0-9DDF-4C87-9E30-1DE36256884D}" sibTransId="{AAC255D1-F97C-444F-8A97-77647FD42899}"/>
    <dgm:cxn modelId="{4BD94938-5D64-44F0-8797-3EAEC33C15AC}" srcId="{48B88F06-0150-4877-9ECE-16296DF73546}" destId="{EDF31ABC-D7AE-4399-85B7-C880CBC3C531}" srcOrd="0" destOrd="0" parTransId="{66835850-9B54-4C57-9D7D-5D0541092BD8}" sibTransId="{91A012ED-1711-410F-9570-6E5DA7913316}"/>
    <dgm:cxn modelId="{C73AAC38-F192-448F-A938-A06AAA5E60A1}" type="presOf" srcId="{619FB627-AF19-4C14-9442-52FFFB645011}" destId="{F0798F04-E6A5-4A04-B2D6-4A8F17BD80CC}" srcOrd="0" destOrd="0" presId="urn:microsoft.com/office/officeart/2005/8/layout/vList3"/>
    <dgm:cxn modelId="{F6E55548-75C5-4D6E-B387-E1FE35A0DA4B}" srcId="{269AFBB9-29FB-4A00-BBF8-DAAA0A7FD38F}" destId="{DDF67E15-34D5-48EF-B2B4-92A4017B5EDC}" srcOrd="0" destOrd="0" parTransId="{E7467A58-7C75-4B15-B1A2-8EB3C3D930D4}" sibTransId="{3F8A7EE0-73C7-4214-BD67-DCCD2A2A526B}"/>
    <dgm:cxn modelId="{D44D154F-CBCF-4D75-A210-26D147776056}" srcId="{37BD9247-E0B7-48C9-9814-11B9A67E5F76}" destId="{A343DB4B-792D-4B95-AF82-CFF00AD9222C}" srcOrd="0" destOrd="0" parTransId="{F1EE6D3E-2EC0-4FE5-BFFC-703D45F53F0A}" sibTransId="{DF7B5C9B-CCC3-4536-BAB2-8B9A6D2F993A}"/>
    <dgm:cxn modelId="{80DADB75-F363-4863-9AD2-14B06F0C072E}" srcId="{619FB627-AF19-4C14-9442-52FFFB645011}" destId="{269AFBB9-29FB-4A00-BBF8-DAAA0A7FD38F}" srcOrd="2" destOrd="0" parTransId="{E2764B0F-3B5C-4AA6-A823-37984771053E}" sibTransId="{ED64EF22-C090-4F2C-A4E7-C7B4C5C36CF7}"/>
    <dgm:cxn modelId="{48BA3A90-ABCE-432C-9F81-12BFF614BFAA}" type="presOf" srcId="{269AFBB9-29FB-4A00-BBF8-DAAA0A7FD38F}" destId="{CAE40D7B-CB4B-4DFB-8DA9-E39C07226AF6}" srcOrd="0" destOrd="0" presId="urn:microsoft.com/office/officeart/2005/8/layout/vList3"/>
    <dgm:cxn modelId="{DE95DAAF-DEE4-45AA-BDEE-4187C307C2F7}" type="presOf" srcId="{37BD9247-E0B7-48C9-9814-11B9A67E5F76}" destId="{CDCFEB67-FD02-4AFD-A008-63F97B7A92C6}" srcOrd="0" destOrd="0" presId="urn:microsoft.com/office/officeart/2005/8/layout/vList3"/>
    <dgm:cxn modelId="{44000DB2-96B2-4F00-890C-5A7A3A8A626D}" type="presOf" srcId="{A343DB4B-792D-4B95-AF82-CFF00AD9222C}" destId="{CDCFEB67-FD02-4AFD-A008-63F97B7A92C6}" srcOrd="0" destOrd="1" presId="urn:microsoft.com/office/officeart/2005/8/layout/vList3"/>
    <dgm:cxn modelId="{A84FACF7-63D5-4904-8C87-B7E1AA9A1921}" type="presOf" srcId="{EDF31ABC-D7AE-4399-85B7-C880CBC3C531}" destId="{3009ECC5-D85F-4E5A-A558-5EC15CB79171}" srcOrd="0" destOrd="1" presId="urn:microsoft.com/office/officeart/2005/8/layout/vList3"/>
    <dgm:cxn modelId="{5EBAEAFA-DEC9-472E-B6C9-80633D181D59}" srcId="{619FB627-AF19-4C14-9442-52FFFB645011}" destId="{48B88F06-0150-4877-9ECE-16296DF73546}" srcOrd="0" destOrd="0" parTransId="{378ECCC2-61CE-4EB8-BC0E-DDF7DCD51EC0}" sibTransId="{EDF5E523-B41E-430A-8B1A-81DD179A934A}"/>
    <dgm:cxn modelId="{23A3DAFE-DE4E-4DBA-A26C-D02EE082BCF8}" type="presOf" srcId="{DDF67E15-34D5-48EF-B2B4-92A4017B5EDC}" destId="{CAE40D7B-CB4B-4DFB-8DA9-E39C07226AF6}" srcOrd="0" destOrd="1" presId="urn:microsoft.com/office/officeart/2005/8/layout/vList3"/>
    <dgm:cxn modelId="{3B735DCD-ED06-4812-9663-7DE75DEABF32}" type="presParOf" srcId="{F0798F04-E6A5-4A04-B2D6-4A8F17BD80CC}" destId="{B34D0607-0C48-42E7-9C65-BD015C676EE7}" srcOrd="0" destOrd="0" presId="urn:microsoft.com/office/officeart/2005/8/layout/vList3"/>
    <dgm:cxn modelId="{DC456386-09D7-40EE-818A-058AA53EA29C}" type="presParOf" srcId="{B34D0607-0C48-42E7-9C65-BD015C676EE7}" destId="{76190947-C66A-4B61-A064-7523565E5AE6}" srcOrd="0" destOrd="0" presId="urn:microsoft.com/office/officeart/2005/8/layout/vList3"/>
    <dgm:cxn modelId="{B17F8785-8505-42D8-AF07-98919E747ABE}" type="presParOf" srcId="{B34D0607-0C48-42E7-9C65-BD015C676EE7}" destId="{3009ECC5-D85F-4E5A-A558-5EC15CB79171}" srcOrd="1" destOrd="0" presId="urn:microsoft.com/office/officeart/2005/8/layout/vList3"/>
    <dgm:cxn modelId="{6CC2DE54-295D-4C34-9620-746BE3220CF6}" type="presParOf" srcId="{F0798F04-E6A5-4A04-B2D6-4A8F17BD80CC}" destId="{B2515FDD-8925-4156-B633-6EFA72E661F4}" srcOrd="1" destOrd="0" presId="urn:microsoft.com/office/officeart/2005/8/layout/vList3"/>
    <dgm:cxn modelId="{C1A9BA11-E6C0-4225-B1C2-21CA5694F041}" type="presParOf" srcId="{F0798F04-E6A5-4A04-B2D6-4A8F17BD80CC}" destId="{1223A65E-A7EA-4A34-AA52-36DFD0C4B04E}" srcOrd="2" destOrd="0" presId="urn:microsoft.com/office/officeart/2005/8/layout/vList3"/>
    <dgm:cxn modelId="{C5E21B47-3A3B-4B51-BA9B-8BCC5D378917}" type="presParOf" srcId="{1223A65E-A7EA-4A34-AA52-36DFD0C4B04E}" destId="{84FE0721-A470-4D78-B830-D18F540E5B56}" srcOrd="0" destOrd="0" presId="urn:microsoft.com/office/officeart/2005/8/layout/vList3"/>
    <dgm:cxn modelId="{497E3182-630C-4EC4-A2B5-9B85F7665C34}" type="presParOf" srcId="{1223A65E-A7EA-4A34-AA52-36DFD0C4B04E}" destId="{CDCFEB67-FD02-4AFD-A008-63F97B7A92C6}" srcOrd="1" destOrd="0" presId="urn:microsoft.com/office/officeart/2005/8/layout/vList3"/>
    <dgm:cxn modelId="{5C3CC50C-6F46-4493-B94B-CAC217E787F2}" type="presParOf" srcId="{F0798F04-E6A5-4A04-B2D6-4A8F17BD80CC}" destId="{0E4E0C88-6CE3-4E2A-960D-9387D07CD06B}" srcOrd="3" destOrd="0" presId="urn:microsoft.com/office/officeart/2005/8/layout/vList3"/>
    <dgm:cxn modelId="{32EC3411-068C-4DBA-9690-E7F4733B50EC}" type="presParOf" srcId="{F0798F04-E6A5-4A04-B2D6-4A8F17BD80CC}" destId="{C64A41C5-363C-465D-973C-F0683905F2C7}" srcOrd="4" destOrd="0" presId="urn:microsoft.com/office/officeart/2005/8/layout/vList3"/>
    <dgm:cxn modelId="{6891E7E1-EEE4-4B42-8566-605C3C4EB1F9}" type="presParOf" srcId="{C64A41C5-363C-465D-973C-F0683905F2C7}" destId="{23EA077C-6617-4D34-B12A-6DDB2547F26F}" srcOrd="0" destOrd="0" presId="urn:microsoft.com/office/officeart/2005/8/layout/vList3"/>
    <dgm:cxn modelId="{BEBA02A5-21E2-4DB9-BB46-3ABCEEEA1D6A}" type="presParOf" srcId="{C64A41C5-363C-465D-973C-F0683905F2C7}" destId="{CAE40D7B-CB4B-4DFB-8DA9-E39C07226AF6}" srcOrd="1" destOrd="0" presId="urn:microsoft.com/office/officeart/2005/8/layout/vList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009ECC5-D85F-4E5A-A558-5EC15CB79171}">
      <dsp:nvSpPr>
        <dsp:cNvPr id="0" name=""/>
        <dsp:cNvSpPr/>
      </dsp:nvSpPr>
      <dsp:spPr>
        <a:xfrm rot="10800000">
          <a:off x="1397042" y="468"/>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1</a:t>
          </a:r>
        </a:p>
        <a:p>
          <a:pPr marL="114300" lvl="1" indent="-114300" algn="l" defTabSz="666750">
            <a:lnSpc>
              <a:spcPct val="90000"/>
            </a:lnSpc>
            <a:spcBef>
              <a:spcPct val="0"/>
            </a:spcBef>
            <a:spcAft>
              <a:spcPct val="15000"/>
            </a:spcAft>
            <a:buChar char="•"/>
          </a:pPr>
          <a:r>
            <a:rPr lang="en-US" sz="1500" kern="1200" dirty="0"/>
            <a:t>Determine Eligible State Agencies </a:t>
          </a:r>
        </a:p>
      </dsp:txBody>
      <dsp:txXfrm rot="10800000">
        <a:off x="1582506" y="468"/>
        <a:ext cx="4624683" cy="741855"/>
      </dsp:txXfrm>
    </dsp:sp>
    <dsp:sp modelId="{76190947-C66A-4B61-A064-7523565E5AE6}">
      <dsp:nvSpPr>
        <dsp:cNvPr id="0" name=""/>
        <dsp:cNvSpPr/>
      </dsp:nvSpPr>
      <dsp:spPr>
        <a:xfrm>
          <a:off x="1026114" y="468"/>
          <a:ext cx="741855" cy="741855"/>
        </a:xfrm>
        <a:prstGeom prst="ellipse">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r:embed="rId2"/>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DCFEB67-FD02-4AFD-A008-63F97B7A92C6}">
      <dsp:nvSpPr>
        <dsp:cNvPr id="0" name=""/>
        <dsp:cNvSpPr/>
      </dsp:nvSpPr>
      <dsp:spPr>
        <a:xfrm rot="10800000">
          <a:off x="1397042" y="943536"/>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2</a:t>
          </a:r>
        </a:p>
        <a:p>
          <a:pPr marL="114300" lvl="1" indent="-114300" algn="l" defTabSz="666750">
            <a:lnSpc>
              <a:spcPct val="90000"/>
            </a:lnSpc>
            <a:spcBef>
              <a:spcPct val="0"/>
            </a:spcBef>
            <a:spcAft>
              <a:spcPct val="15000"/>
            </a:spcAft>
            <a:buChar char="•"/>
          </a:pPr>
          <a:r>
            <a:rPr lang="en-US" sz="1500" kern="1200" dirty="0"/>
            <a:t>Determine Eligible Facilities</a:t>
          </a:r>
        </a:p>
      </dsp:txBody>
      <dsp:txXfrm rot="10800000">
        <a:off x="1582506" y="943536"/>
        <a:ext cx="4624683" cy="741855"/>
      </dsp:txXfrm>
    </dsp:sp>
    <dsp:sp modelId="{84FE0721-A470-4D78-B830-D18F540E5B56}">
      <dsp:nvSpPr>
        <dsp:cNvPr id="0" name=""/>
        <dsp:cNvSpPr/>
      </dsp:nvSpPr>
      <dsp:spPr>
        <a:xfrm>
          <a:off x="1026114" y="943536"/>
          <a:ext cx="741855" cy="741855"/>
        </a:xfrm>
        <a:prstGeom prst="ellipse">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r:embed="rId4"/>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 modelId="{CAE40D7B-CB4B-4DFB-8DA9-E39C07226AF6}">
      <dsp:nvSpPr>
        <dsp:cNvPr id="0" name=""/>
        <dsp:cNvSpPr/>
      </dsp:nvSpPr>
      <dsp:spPr>
        <a:xfrm rot="10800000">
          <a:off x="1397042" y="1886605"/>
          <a:ext cx="4810147" cy="741855"/>
        </a:xfrm>
        <a:prstGeom prst="homePlate">
          <a:avLst/>
        </a:prstGeom>
        <a:gradFill rotWithShape="0">
          <a:gsLst>
            <a:gs pos="0">
              <a:schemeClr val="accent1">
                <a:hueOff val="0"/>
                <a:satOff val="0"/>
                <a:lumOff val="0"/>
                <a:alphaOff val="0"/>
                <a:satMod val="103000"/>
                <a:lumMod val="102000"/>
                <a:tint val="94000"/>
              </a:schemeClr>
            </a:gs>
            <a:gs pos="50000">
              <a:schemeClr val="accent1">
                <a:hueOff val="0"/>
                <a:satOff val="0"/>
                <a:lumOff val="0"/>
                <a:alphaOff val="0"/>
                <a:satMod val="110000"/>
                <a:lumMod val="100000"/>
                <a:shade val="100000"/>
              </a:schemeClr>
            </a:gs>
            <a:gs pos="100000">
              <a:schemeClr val="accent1">
                <a:hueOff val="0"/>
                <a:satOff val="0"/>
                <a:lumOff val="0"/>
                <a:alphaOff val="0"/>
                <a:lumMod val="99000"/>
                <a:satMod val="120000"/>
                <a:shade val="78000"/>
              </a:schemeClr>
            </a:gs>
          </a:gsLst>
          <a:lin ang="5400000" scaled="0"/>
        </a:gradFill>
        <a:ln>
          <a:noFill/>
        </a:ln>
        <a:effectLst>
          <a:outerShdw blurRad="57150" dist="19050" dir="5400000" algn="ctr" rotWithShape="0">
            <a:srgbClr val="000000">
              <a:alpha val="63000"/>
            </a:srgbClr>
          </a:outerShdw>
        </a:effectLst>
      </dsp:spPr>
      <dsp:style>
        <a:lnRef idx="0">
          <a:scrgbClr r="0" g="0" b="0"/>
        </a:lnRef>
        <a:fillRef idx="3">
          <a:scrgbClr r="0" g="0" b="0"/>
        </a:fillRef>
        <a:effectRef idx="3">
          <a:scrgbClr r="0" g="0" b="0"/>
        </a:effectRef>
        <a:fontRef idx="minor">
          <a:schemeClr val="lt1"/>
        </a:fontRef>
      </dsp:style>
      <dsp:txBody>
        <a:bodyPr spcFirstLastPara="0" vert="horz" wrap="square" lIns="327138" tIns="72390" rIns="135128" bIns="72390" numCol="1" spcCol="1270" anchor="t" anchorCtr="0">
          <a:noAutofit/>
        </a:bodyPr>
        <a:lstStyle/>
        <a:p>
          <a:pPr marL="0" lvl="0" indent="0" algn="l" defTabSz="844550">
            <a:lnSpc>
              <a:spcPct val="90000"/>
            </a:lnSpc>
            <a:spcBef>
              <a:spcPct val="0"/>
            </a:spcBef>
            <a:spcAft>
              <a:spcPct val="35000"/>
            </a:spcAft>
            <a:buNone/>
          </a:pPr>
          <a:r>
            <a:rPr lang="en-US" sz="1900" kern="1200" dirty="0"/>
            <a:t>3</a:t>
          </a:r>
        </a:p>
        <a:p>
          <a:pPr marL="114300" lvl="1" indent="-114300" algn="l" defTabSz="666750">
            <a:lnSpc>
              <a:spcPct val="90000"/>
            </a:lnSpc>
            <a:spcBef>
              <a:spcPct val="0"/>
            </a:spcBef>
            <a:spcAft>
              <a:spcPct val="15000"/>
            </a:spcAft>
            <a:buChar char="•"/>
          </a:pPr>
          <a:r>
            <a:rPr lang="en-US" sz="1500" kern="1200" dirty="0"/>
            <a:t>Determine Eligible Students </a:t>
          </a:r>
        </a:p>
      </dsp:txBody>
      <dsp:txXfrm rot="10800000">
        <a:off x="1582506" y="1886605"/>
        <a:ext cx="4624683" cy="741855"/>
      </dsp:txXfrm>
    </dsp:sp>
    <dsp:sp modelId="{23EA077C-6617-4D34-B12A-6DDB2547F26F}">
      <dsp:nvSpPr>
        <dsp:cNvPr id="0" name=""/>
        <dsp:cNvSpPr/>
      </dsp:nvSpPr>
      <dsp:spPr>
        <a:xfrm>
          <a:off x="1026114" y="1886605"/>
          <a:ext cx="741855" cy="741855"/>
        </a:xfrm>
        <a:prstGeom prst="ellipse">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r:embed="rId6"/>
              </a:ext>
            </a:extLst>
          </a:blip>
          <a:srcRect/>
          <a:stretch>
            <a:fillRect/>
          </a:stretch>
        </a:blipFill>
        <a:ln>
          <a:noFill/>
        </a:ln>
        <a:effectLst>
          <a:outerShdw blurRad="57150" dist="19050" dir="5400000" algn="ctr" rotWithShape="0">
            <a:srgbClr val="000000">
              <a:alpha val="63000"/>
            </a:srgbClr>
          </a:outerShdw>
        </a:effectLst>
      </dsp:spPr>
      <dsp:style>
        <a:lnRef idx="0">
          <a:scrgbClr r="0" g="0" b="0"/>
        </a:lnRef>
        <a:fillRef idx="1">
          <a:scrgbClr r="0" g="0" b="0"/>
        </a:fillRef>
        <a:effectRef idx="3">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 type="picture" pri="27000"/>
    <dgm:cat type="pictureconvert" pri="27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3907012-48F8-4B88-928C-F4279F8F7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040" cy="3085920"/>
          </a:xfrm>
          <a:prstGeom prst="rect">
            <a:avLst/>
          </a:prstGeom>
          <a:ln w="0">
            <a:noFill/>
          </a:ln>
        </p:spPr>
      </p:sp>
      <p:sp>
        <p:nvSpPr>
          <p:cNvPr id="1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8"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7864BCB-1D08-454B-A413-907EDC56C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5F1FE-386F-4E96-909D-6DEC56C0B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1F8D2-37E2-4245-A97F-3E597420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2CE7C-61F6-489D-A044-87F5CC78D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18647-C3FD-4073-AD52-C9446C2A1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1BAE2-F267-4AF4-8361-BCB0C1657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C4CF9-45A1-4473-8BD7-6BED5B3A6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FAFC0-FC73-4F5D-AC4F-58A380654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31078-4704-4FE6-807F-8696448A1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9AA3E-8B69-4BB3-B4F7-7F5B5BEAB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AE874-5325-4847-B3AA-2F435007D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BBD45-1288-4E22-893D-879F47082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92B2-7476-4F88-B1BF-3C1AD6688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AF8D-B11F-459C-96CA-FC93AA3E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F4722-7056-4303-B610-4E9D23A1A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A1468-D898-4C8E-840F-AEE7733A6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85917-DE30-41DD-B039-BFAB1FE0A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C4344-6C57-496C-B689-15C1A0032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E1C5E-9AD4-4E68-8858-FBEECC079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35CD-E3CE-4AE6-B414-DCD1C022E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47FC-B74D-476B-9B98-E21F8072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A91D-4D77-415F-B1AB-672874E8F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A2F78-5FAE-4C35-B9B2-A4188083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EF29-FEE8-4C3F-B76F-9169E3847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B5C3-EE80-402D-94BE-D9A0C2883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F51BD47-EC8B-4ED9-80A0-90058109FA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302176F-A5FB-49B5-8FAB-7C453557CB4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69040" y="1667520"/>
            <a:ext cx="10329120" cy="2852280"/>
          </a:xfrm>
          <a:prstGeom prst="rect">
            <a:avLst/>
          </a:prstGeom>
          <a:noFill/>
          <a:ln w="0">
            <a:noFill/>
          </a:ln>
        </p:spPr>
        <p:txBody>
          <a:bodyPr anchor="b">
            <a:normAutofit fontScale="81000"/>
          </a:bodyPr>
          <a:p>
            <a:pPr indent="0" algn="ctr">
              <a:lnSpc>
                <a:spcPct val="90000"/>
              </a:lnSpc>
              <a:buNone/>
            </a:pPr>
            <a:r>
              <a:rPr b="1" lang="en-US" sz="6000" spc="-1" strike="noStrike">
                <a:solidFill>
                  <a:schemeClr val="accent5"/>
                </a:solidFill>
                <a:latin typeface="Calibri Light"/>
              </a:rPr>
              <a:t>Title 1 Part D, Subpart 1 </a:t>
            </a:r>
            <a:br>
              <a:rPr sz="6000"/>
            </a:br>
            <a:r>
              <a:rPr b="1" lang="en-US" sz="6000" spc="-1" strike="noStrike">
                <a:solidFill>
                  <a:schemeClr val="accent5"/>
                </a:solidFill>
                <a:latin typeface="Calibri Light"/>
              </a:rPr>
              <a:t>Annual Count 2024-2025</a:t>
            </a:r>
            <a:br>
              <a:rPr sz="6000"/>
            </a:br>
            <a:r>
              <a:rPr b="1" lang="en-US" sz="6000" spc="-1" strike="noStrike">
                <a:solidFill>
                  <a:schemeClr val="accent5"/>
                </a:solidFill>
                <a:latin typeface="Calibri Light"/>
              </a:rPr>
              <a:t>Webinar</a:t>
            </a:r>
            <a:br>
              <a:rPr sz="6000"/>
            </a:br>
            <a:endParaRPr b="0" lang="en-US" sz="6000" spc="-1" strike="noStrike">
              <a:solidFill>
                <a:srgbClr val="000000"/>
              </a:solidFill>
              <a:latin typeface="Calibri"/>
            </a:endParaRPr>
          </a:p>
        </p:txBody>
      </p:sp>
      <p:sp>
        <p:nvSpPr>
          <p:cNvPr id="3" name="PlaceHolder 2"/>
          <p:cNvSpPr>
            <a:spLocks noGrp="1"/>
          </p:cNvSpPr>
          <p:nvPr>
            <p:ph type="sldNum" idx="3"/>
          </p:nvPr>
        </p:nvSpPr>
        <p:spPr/>
        <p:txBody>
          <a:bodyPr/>
          <a:p>
            <a:fld id="{CF57D085-9F43-4C2C-B2AD-CAACF2AFC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07"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rgbClr val="000000"/>
                </a:solidFill>
                <a:latin typeface="Arial"/>
              </a:rPr>
              <a:t>The term “institution for neglected or delinquent youth” means a public or private residential facility, other than a foster home, that is for the care of children wh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Have been committed to the institution or voluntarily placed in the institution under applicable state law due to abandonment, neglect, or death of their parents or guardian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Or have been adjudicated to be delinquent or in need of supervision.</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9F45C34B-0D46-4F06-B443-4A92D67AB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Definition</a:t>
            </a:r>
            <a:endParaRPr b="0" lang="en-US" sz="5400" spc="-1" strike="noStrike">
              <a:solidFill>
                <a:srgbClr val="000000"/>
              </a:solidFill>
              <a:latin typeface="Calibri"/>
            </a:endParaRPr>
          </a:p>
        </p:txBody>
      </p:sp>
      <p:sp>
        <p:nvSpPr>
          <p:cNvPr id="109" name="PlaceHolder 2"/>
          <p:cNvSpPr>
            <a:spLocks noGrp="1"/>
          </p:cNvSpPr>
          <p:nvPr>
            <p:ph/>
          </p:nvPr>
        </p:nvSpPr>
        <p:spPr>
          <a:xfrm>
            <a:off x="182880" y="1825560"/>
            <a:ext cx="11845440" cy="4350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000000"/>
                </a:solidFill>
                <a:latin typeface="Arial"/>
              </a:rPr>
              <a:t>Regular program of instruction is defined a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Instruction that does not go beyond grade 12.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Classroom instruction in basic school subjects (e.g., reading, mathematics, and career and technical education subjec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Instruction that is supported by non-federal funds</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BE613C2F-79E1-448C-8399-8482D53F5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Period</a:t>
            </a:r>
            <a:endParaRPr b="0" lang="en-US" sz="5400" spc="-1" strike="noStrike">
              <a:solidFill>
                <a:srgbClr val="000000"/>
              </a:solidFill>
              <a:latin typeface="Calibri"/>
            </a:endParaRPr>
          </a:p>
        </p:txBody>
      </p:sp>
      <p:sp>
        <p:nvSpPr>
          <p:cNvPr id="111" name="PlaceHolder 2"/>
          <p:cNvSpPr>
            <a:spLocks noGrp="1"/>
          </p:cNvSpPr>
          <p:nvPr>
            <p:ph/>
          </p:nvPr>
        </p:nvSpPr>
        <p:spPr>
          <a:xfrm>
            <a:off x="182880" y="1825560"/>
            <a:ext cx="118454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he State Agency selects any one school day during the current calendar year, and all institutions must use that date for the enrollment count. Institutions adjust the count to reflect the relative length of the school year of the specific agency or institutions</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Octobe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December</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1327CC98-8510-49DF-8842-FF56F4E0F8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unt Calculation</a:t>
            </a:r>
            <a:endParaRPr b="0" lang="en-US" sz="5400" spc="-1" strike="noStrike">
              <a:solidFill>
                <a:srgbClr val="000000"/>
              </a:solidFill>
              <a:latin typeface="Calibri"/>
            </a:endParaRPr>
          </a:p>
        </p:txBody>
      </p:sp>
      <p:sp>
        <p:nvSpPr>
          <p:cNvPr id="113" name="PlaceHolder 2"/>
          <p:cNvSpPr>
            <a:spLocks noGrp="1"/>
          </p:cNvSpPr>
          <p:nvPr>
            <p:ph/>
          </p:nvPr>
        </p:nvSpPr>
        <p:spPr>
          <a:xfrm>
            <a:off x="182880" y="1825560"/>
            <a:ext cx="118454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state agency will adjust the count to reflect the length of the school year of the agency or institution.</a:t>
            </a:r>
            <a:r>
              <a:rPr b="0" lang="en-US" sz="1100" spc="-1" strike="noStrike">
                <a:solidFill>
                  <a:srgbClr val="000000"/>
                </a:solidFill>
                <a:latin typeface="Calibri"/>
              </a:rPr>
              <a:t> </a:t>
            </a:r>
            <a:endParaRPr b="0" lang="en-US" sz="11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adjustment is made by (a) multiplying the number of students enrolled in the institution (on the day selected by the SA), by the number of days per year the regular program of instruction operates, and (b) dividing that number by a number that represents the number of school days in the academic year for the state (i.e.180).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Arial"/>
              </a:rPr>
              <a:t>              </a:t>
            </a:r>
            <a:r>
              <a:rPr b="0" lang="en-US" sz="2800" spc="-1" strike="noStrike" u="sng">
                <a:solidFill>
                  <a:srgbClr val="000000"/>
                </a:solidFill>
                <a:uFillTx/>
                <a:latin typeface="Arial"/>
              </a:rPr>
              <a:t>(Single Day Count) X (Length of School Year in Days)</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Arial"/>
              </a:rPr>
              <a:t>                                                 </a:t>
            </a:r>
            <a:r>
              <a:rPr b="0" lang="en-US" sz="2800" spc="-1" strike="noStrike">
                <a:solidFill>
                  <a:srgbClr val="000000"/>
                </a:solidFill>
                <a:latin typeface="Arial"/>
              </a:rPr>
              <a:t>180 Day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828EC510-ECCE-44C6-9B65-17DDBFD0F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15"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3059A0F7-E36A-429C-A401-8CD4553C53F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483200" y="1976760"/>
            <a:ext cx="9388440" cy="40129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n understanding of the purpose of the annual count.</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information on the annual count data collection 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To provide assistance in determining eligible facilities and students.</a:t>
            </a:r>
            <a:endParaRPr b="0" lang="en-US" sz="3200" spc="-1" strike="noStrike">
              <a:solidFill>
                <a:srgbClr val="000000"/>
              </a:solidFill>
              <a:latin typeface="Calibri"/>
            </a:endParaRPr>
          </a:p>
          <a:p>
            <a:pPr indent="0">
              <a:lnSpc>
                <a:spcPct val="90000"/>
              </a:lnSpc>
              <a:spcBef>
                <a:spcPts val="1001"/>
              </a:spcBef>
              <a:buNone/>
            </a:pPr>
            <a:endParaRPr b="0" lang="en-US" sz="4400" spc="-1" strike="noStrike">
              <a:solidFill>
                <a:srgbClr val="000000"/>
              </a:solidFill>
              <a:latin typeface="Calibri"/>
            </a:endParaRPr>
          </a:p>
        </p:txBody>
      </p:sp>
      <p:sp>
        <p:nvSpPr>
          <p:cNvPr id="92" name="PlaceHolder 2"/>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Objectives</a:t>
            </a:r>
            <a:endParaRPr b="0" lang="en-US" sz="5400" spc="-1" strike="noStrike">
              <a:solidFill>
                <a:srgbClr val="000000"/>
              </a:solidFill>
              <a:latin typeface="Calibri"/>
            </a:endParaRPr>
          </a:p>
        </p:txBody>
      </p:sp>
      <p:sp>
        <p:nvSpPr>
          <p:cNvPr id="4" name="PlaceHolder 3"/>
          <p:cNvSpPr>
            <a:spLocks noGrp="1"/>
          </p:cNvSpPr>
          <p:nvPr>
            <p:ph type="sldNum" idx="6"/>
          </p:nvPr>
        </p:nvSpPr>
        <p:spPr/>
        <p:txBody>
          <a:bodyPr/>
          <a:p>
            <a:fld id="{84D935B8-A94D-419E-B5B6-86CE982FC4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genda</a:t>
            </a:r>
            <a:endParaRPr b="0" lang="en-US" sz="5400" spc="-1" strike="noStrike">
              <a:solidFill>
                <a:srgbClr val="000000"/>
              </a:solidFill>
              <a:latin typeface="Calibri"/>
            </a:endParaRPr>
          </a:p>
        </p:txBody>
      </p:sp>
      <p:sp>
        <p:nvSpPr>
          <p:cNvPr id="94" name="PlaceHolder 2"/>
          <p:cNvSpPr>
            <a:spLocks noGrp="1"/>
          </p:cNvSpPr>
          <p:nvPr>
            <p:ph/>
          </p:nvPr>
        </p:nvSpPr>
        <p:spPr>
          <a:xfrm>
            <a:off x="1650960" y="1782720"/>
            <a:ext cx="6058440" cy="3928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urpos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Process</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Fund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unting</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3200" spc="-1" strike="noStrike">
                <a:solidFill>
                  <a:srgbClr val="000000"/>
                </a:solidFill>
                <a:latin typeface="Arial"/>
              </a:rPr>
              <a:t>Contact Information</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597B17-DFF2-4024-9E65-1AB5505828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urpose of the Annual Count</a:t>
            </a:r>
            <a:endParaRPr b="0" lang="en-US" sz="5400" spc="-1" strike="noStrike">
              <a:solidFill>
                <a:srgbClr val="000000"/>
              </a:solidFill>
              <a:latin typeface="Calibri"/>
            </a:endParaRPr>
          </a:p>
        </p:txBody>
      </p:sp>
      <p:sp>
        <p:nvSpPr>
          <p:cNvPr id="96" name="PlaceHolder 2"/>
          <p:cNvSpPr>
            <a:spLocks noGrp="1"/>
          </p:cNvSpPr>
          <p:nvPr>
            <p:ph/>
          </p:nvPr>
        </p:nvSpPr>
        <p:spPr>
          <a:xfrm>
            <a:off x="182880" y="1825560"/>
            <a:ext cx="118454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o accurately identify the number of eligible children and youth who are </a:t>
            </a:r>
            <a:r>
              <a:rPr b="1" lang="en-US" sz="2800" spc="-1" strike="noStrike">
                <a:solidFill>
                  <a:srgbClr val="000000"/>
                </a:solidFill>
                <a:latin typeface="Arial"/>
              </a:rPr>
              <a:t>Neglected</a:t>
            </a:r>
            <a:r>
              <a:rPr b="0" lang="en-US" sz="2800" spc="-1" strike="noStrike">
                <a:solidFill>
                  <a:srgbClr val="000000"/>
                </a:solidFill>
                <a:latin typeface="Arial"/>
              </a:rPr>
              <a:t> and </a:t>
            </a:r>
            <a:r>
              <a:rPr b="1" lang="en-US" sz="2800" spc="-1" strike="noStrike">
                <a:solidFill>
                  <a:srgbClr val="000000"/>
                </a:solidFill>
                <a:latin typeface="Arial"/>
              </a:rPr>
              <a:t>Delinquent</a:t>
            </a:r>
            <a:r>
              <a:rPr b="0" lang="en-US" sz="2800" spc="-1" strike="noStrike">
                <a:solidFill>
                  <a:srgbClr val="000000"/>
                </a:solidFill>
                <a:latin typeface="Arial"/>
              </a:rPr>
              <a:t> – The Department of Education uses the data from the annual count to determine the funding that is provided to the stat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Arial"/>
              </a:rPr>
              <a:t>To allocate funding to eligible programs and eligible children and youth with the greatest need – The New Mexico Department of Education (NMPED) then awards sub grants to state agencies that serve children and youth in juvenile correctional facilitie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FC22BFF2-AA74-4396-87CB-C77361DB0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1232306236"/>
              </p:ext>
            </p:extLst>
          </p:nvPr>
        </p:nvGraphicFramePr>
        <p:xfrm>
          <a:off x="2120400" y="1918080"/>
          <a:ext cx="7233120" cy="2628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 name="PlaceHolder 2"/>
          <p:cNvSpPr>
            <a:spLocks noGrp="1"/>
          </p:cNvSpPr>
          <p:nvPr>
            <p:ph type="sldNum" idx="6"/>
          </p:nvPr>
        </p:nvSpPr>
        <p:spPr/>
        <p:txBody>
          <a:bodyPr/>
          <a:p>
            <a:fld id="{0C72F1E7-666A-43B5-8E73-0BD1C737B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99"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ate Agenc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State agencies that are responsible for providing free public education to children and youth who are in a Neglected or Delinquent institution, community day programs, or adult correctional facilities are eligible.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New Mexico Department of Corrections, Children, Youth and Family Department (CYFD) and the Sequoyah Center under the Department of Health (DOH) have been identified as the state agencies eligible under Subpart 1.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57BCD2DC-8B1D-426A-9D45-97374E123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1" name="PlaceHolder 2"/>
          <p:cNvSpPr>
            <a:spLocks noGrp="1"/>
          </p:cNvSpPr>
          <p:nvPr>
            <p:ph/>
          </p:nvPr>
        </p:nvSpPr>
        <p:spPr>
          <a:xfrm>
            <a:off x="182880" y="182556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Faciliti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facility is an institution for Neglected or Delinquent children and youth.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average length of stay in the facility is at least 30 day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ate agency (in collaboration with the department) determines which facilities are eligible.</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1006AC44-F72D-4514-8300-3E15B38CB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ount Process</a:t>
            </a:r>
            <a:endParaRPr b="0" lang="en-US" sz="5400" spc="-1" strike="noStrike">
              <a:solidFill>
                <a:srgbClr val="000000"/>
              </a:solidFill>
              <a:latin typeface="Calibri"/>
            </a:endParaRPr>
          </a:p>
        </p:txBody>
      </p:sp>
      <p:sp>
        <p:nvSpPr>
          <p:cNvPr id="103" name="PlaceHolder 2"/>
          <p:cNvSpPr>
            <a:spLocks noGrp="1"/>
          </p:cNvSpPr>
          <p:nvPr>
            <p:ph/>
          </p:nvPr>
        </p:nvSpPr>
        <p:spPr>
          <a:xfrm>
            <a:off x="163440" y="1540440"/>
            <a:ext cx="11845440" cy="4350960"/>
          </a:xfrm>
          <a:prstGeom prst="rect">
            <a:avLst/>
          </a:prstGeom>
          <a:noFill/>
          <a:ln w="0">
            <a:noFill/>
          </a:ln>
        </p:spPr>
        <p:txBody>
          <a:bodyPr anchor="t">
            <a:normAutofit/>
          </a:bodyPr>
          <a:p>
            <a:pPr indent="0">
              <a:lnSpc>
                <a:spcPct val="90000"/>
              </a:lnSpc>
              <a:spcBef>
                <a:spcPts val="1001"/>
              </a:spcBef>
              <a:buNone/>
              <a:tabLst>
                <a:tab algn="l" pos="0"/>
              </a:tabLst>
            </a:pPr>
            <a:r>
              <a:rPr b="0" lang="en-US" sz="2800" spc="-1" strike="noStrike">
                <a:solidFill>
                  <a:schemeClr val="accent5"/>
                </a:solidFill>
                <a:latin typeface="Arial"/>
              </a:rPr>
              <a:t>Determine Eligible Student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is 20 years of age or younger.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is enrolled in a state-funded “regular program of instruc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student receives at least 15 hours per week of instruction if in an adult facility or at least 20 hours per week if in a juvenile facility or community day progra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Arial"/>
              </a:rPr>
              <a:t>The facility (in collaboration with state agency and/or the department) identifies eligible students. </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3C5B6D57-8264-49BC-8A4E-F084DBB7E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unding </a:t>
            </a:r>
            <a:endParaRPr b="0" lang="en-US" sz="5400" spc="-1" strike="noStrike">
              <a:solidFill>
                <a:srgbClr val="000000"/>
              </a:solidFill>
              <a:latin typeface="Calibri"/>
            </a:endParaRPr>
          </a:p>
        </p:txBody>
      </p:sp>
      <p:sp>
        <p:nvSpPr>
          <p:cNvPr id="105" name="PlaceHolder 2"/>
          <p:cNvSpPr>
            <a:spLocks noGrp="1"/>
          </p:cNvSpPr>
          <p:nvPr>
            <p:ph/>
          </p:nvPr>
        </p:nvSpPr>
        <p:spPr>
          <a:xfrm>
            <a:off x="266760" y="1548720"/>
            <a:ext cx="118454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The US Department of Education allocates funds to PED based upon a formula based upon a one-day annual count of youth (ages 20 or younger) who are enrolled in a “regular program of instruction” in eligible facilities (juvenile and adult corrections and community day programs) with an average stay of 30 days for youth who are Neglected or Delinquent. </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Arial"/>
              </a:rPr>
              <a:t>From that allocation, PED makes subgrants to eligible State agency (SA) facilities (juvenile and adult corrections and community day programs) to provide 70% “supplemental” academic services and 30% transitional services to eligible youth. The exception is for institution-wide projects (not allowable in adult correction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05BF0A9-751A-4362-8054-B13399AE0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46BA7FA7-0FAA-4B5C-8695-1F6BA86EBCBF}">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Words>834</Words>
  <Paragraphs>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3-19T20:12:40Z</dcterms:modified>
  <cp:revision>138</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Notes">
    <vt:r8>1</vt:r8>
  </property>
  <property fmtid="{D5CDD505-2E9C-101B-9397-08002B2CF9AE}" pid="4" name="PresentationFormat">
    <vt:lpwstr>Widescreen</vt:lpwstr>
  </property>
  <property fmtid="{D5CDD505-2E9C-101B-9397-08002B2CF9AE}" pid="5" name="Slides">
    <vt:r8>14</vt:r8>
  </property>
</Properties>
</file>